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008-C84C-4FFA-BA8C-70FCD2E2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C95-3770-45FC-B090-4440C0C5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0ED-9F19-4F7D-8040-BC3AF9ED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206-7EB7-4FF5-95B9-AF951CEE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1839-E70B-4DF4-886D-A62E7C4D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9B47-84F3-4964-8140-BA94CD26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2F3D-ABA3-4740-ADB7-22718319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29F1-EEDA-481C-9A29-BCE9E10D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119D-A5B1-499A-BD13-3DC34C9E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179F-3823-4FE2-A6C3-0EB3A014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479D-5DA4-4DD3-B29E-3F1A582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9AF-2EF7-4BAB-BF1A-DC46CD2C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9FAE-C9C0-4F12-B7CC-B597839F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061E-8751-40CC-A454-8D109B12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C428-110B-4771-9467-8AC19F5F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4113-3F19-4B1A-A065-89621817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7FC4-9A44-4854-9D5B-BF71932C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020-8508-4084-AE8F-4191EC1A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03B-C674-4A8A-8C40-DAEE1A97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DB1-A7BD-4B30-B787-B6E6FEC0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FC5-CC03-4D9D-BA36-4903D243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208-ABF8-4885-82B6-F1B81DCE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198-25E2-451E-93C6-93EC74AD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866-B1F4-40AD-8697-FCC1490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9075-D692-4303-ACA6-7C2DFD4C729C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B578-2935-4330-B363-F708EA927065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5640" y="1557000"/>
            <a:ext cx="75596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JHP BN – nowe słownictwo, najnowsze ustalenia metodyczne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68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a Stolarczy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2CB-9805-4EB4-AA65-C51E7861F8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reślnik – ekslibris (y) stosuje się po tematach osobowych,  nazwach ciał zbiorowych oraz po tematach ogól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slibris – znak własnościowy książki z nazwiskiem właściciela lub nazwą instytu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4D0-12B1-44F1-8D39-7D1805A91B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omas Caietan de Wengierski et son ex-libris / [C. Reychman]. – Paris, 19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Węgierski, Tomasz Kajetan - (1756-1787) - ekslib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Ekslibrisy polskie – historia - 18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Literatura polska – historia - 18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655-8679-4E87-97C0-E2A0AB28E8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ba - Ojcze : ekslibrisy dzieci i młodzieży z Dobkowic dla Jana Pawła II wykonane w latach 2003 - 2005 : [katalog wystawy] : Dom kultury "Podgórze" w Krakowie - Galeria Ekslibrisu, 12.04 - 19.05.2005 r./ [oprac. i red. katalogu Andrzej Znamirowski]. - Kraków, [2005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n Paweł II (papież ; 1920-2005) – ekslibris - katalog wysta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m Kultury "Podgórze" (Kraków). Galeria Ekslibrisu - katalog wystaw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kslibrisy polskie - 21 w. - katalog wysta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ztuka dziecka – Polska – 21 w. - katalog wysta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raków (woj. małopolskie) – wystawy - od 2001 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BDE-51DA-4F07-B414-6E3B7AFD4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0 lat Biblioteki Publicznej miasta stołecznego Warszawy: konkurs na  ekslibris : [katalog wystawy] /c[oprac. Janusz M. Szymański, wstęp Janina Jagielska]. -    Warszawa,[1997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blioteka Publiczna Miasta Stołecznego Warszawy - Biblioteka Główna Województwa Mazowieckiego – ekslibris - katalog wysta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blioteka Publiczna Miasta Stołecznego Warszawy - Biblioteka Głów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jewództwa Mazowieckiego - katalog wysta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blioteki publiczne – ekslibrisy – Polska – od 1989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slibrisy - 20 w. - katalog wysta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slibrisy - konkursy i festiwale – Polska - od 1989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szawa – wystawy - od 1989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B1D-039E-4DDC-98FB-4DDEE685C2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libris Biblioteki Narodowej] [Dokument ikonograficzny]  / StanisławOstoja-Chrostowski. – 193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blioteka Narodowa – ekslib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slibisy polskie – 20 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kslibris bibliotek publicznych na Dolnym Śląsku : katalog. [T. 1] / [oprac. Danuta Hannytkiewicz i Ryszard Turkiewicz]. – Wrocław, 19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blioteki publiczne – ekslibrisy - Po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kslibrisy polskie - 20 w. - k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Śląsk, Dolny – bibliotekarstwo - 1944-1989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F6A-6819-4258-A76C-649B30A06E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kslibrisy aktorów polskich :  / Krzysztof Kmieć ; [wstęp Władysław Owczarzy]. Kraków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mieć, Krzysztof (1950- ) – twórczość - k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orzy – ekslibrisy - Po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slibrisy polskie - 20-21 w. - k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tr – ikonografia - 20-21 w. – k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librisy dla lekarzy / [Zbigniew Dolatowski]. Warszawa,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atowski, Zbigniew - (1927-2001) - alb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karze – ekslibrisy – Polska - alb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slibrisy polskie - 20 w. – alb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0D0-0AC8-4494-9078-1251C9D003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bry wojak Szwejk na ekslibrisach Kazimierza Zbigniewa Łońskiego / Mirosław Zbigniew Wojalski. - Łódź,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Łoński, Kazimierz Zbigniew (1940- ) - alb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vejk, Josef – ikon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slibrisy polskie - 20-21 w. – alb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kslibrisy o motywach heraldycznych / Jerzy Drużycki. – Wrocław, 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życki, Jerzy (1930- ) - alb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aldyka - ikonogra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slibrisy polskie – 20 w. – alb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29F-D211-4F55-9251-EE02E87757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obieta czyli Rzecz o białogłowach różnych przedstawiających się w sztuce graficznej zwanej exlibrisem : przez Zbigniewa Strzałkowskiego ze zbioru własnego ukazane publicznie : [wystawa] czerwiec 1977 / [red. katalogu i wstęp Mell Słomkowska]. – Biała Podlaska, 19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zeum Okręgowe (Biała Podlaska) - katalog wy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slibrisy polskie - 20 w. - katalog wy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bieta – ikonografia - katalog wy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ła Podlaska (woj. lubelskie) – wystawy - 1956-198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856-DB6C-4AB6-9DFA-5E0B931500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zionario illustrato della lingua italiana / [red. e revisori Antonia Baldanza et al.]. 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– Novara, 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łownik wło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Słownik polszczyzny XVI wi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ęzyk polski – słownictwo – 16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łownik pol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6BB-F0A0-4162-9902-BF311F04F4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łownik fińsko-polski = Suomalais-puolalainen sanakirja / Stanislaw Wałęga. -Warszawa, 19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łownik fińsko-pol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łownik minimum albańsko-polski, polsko-albański / Marek Jeziorski, Jerzy Wiśniewski. – Warszawa, 199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łownik albańsko-pol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łownik polsko-albań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E0E-9883-41FD-B4B3-0A47E6DBF8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wosz, Wit (1447?-1533). Ołtarz Mariacki w kościele Mariackim w Krakow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ling, Hans (ca 1430-1494). Sąd Ostatecz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ków (woj. małopolskie) - kościół Emaus - ołtarz głów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A17-9FF3-445A-AC67-55FC619E5F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Ilustrowany słownik dla dzieci angielsko-polski, polsko-angielski / Izabella Jastrzębska-Okoń, Elżbieta Mizera. – Warszawa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łownik angielsko-polski dla dz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łownik polsko-angielski dla dz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Engelsk-dansk-norsk ordbog / af J. Brynildsen. – København, 19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łownik wielojęzy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917-BE93-4B33-A87D-ED352747B5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ły słownik frazeologiczny współczesnego języka polskiego / Stanisław Bąba, Jarosław Liberek. – Warszawa,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– frazeologia –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eszonkowy słownik wyrazów obcych. – Poznań,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- wyrazy obce –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047-8EEA-41E8-A24B-5CAA060A18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dręczny słownik poprawnej wymowy polskiej / Władysław Lubaś, Stanisław Urbańczyk. – Warszawa,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– wymowa –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wy szkolny słownik frazeologiczny / - Piotr Müldner-Nieckowski, Łukasz Müldner-Nieckowski. – Warszawa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– frazeologia - materiały pomocnicze dla szkó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– frazeologia -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F3A-9733-4E01-871F-DAE9D1BC12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ły słownik biblizmów języka polskiego : od Adama i Ewy zaczynać / Jan Gody. – Kraków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a - przekłady polskie – frazeologia -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– frazeologia –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lustrowany słownik ortograficzno-gramatyczny dla klas I-III / Ewa Przyłubska. – Warszawa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– gramatyka - słownik dla dz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– pisownia - słownik dla dzie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FA2-5D72-4333-BA8D-9A84CFA057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001 [Eintausendein] deutsch-polnische Idiome / Edward Zys. – Zielona Góra,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niemiecki – frazeologia - słownik niemiecko-pol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gielsko-polski słownik idiomów i zwrotów = An English-Polish dictionary of idioms and phrases / Piotr Borkowski. – Poznań,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angielski – frazeologia - słownik angielsko-pol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A8E-1AAF-4867-8530-55A02D876E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łownik frazeologiczny angielsko-polski i polsko-angielski / Teresa Jaworska. – Warszaw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ęzyk angielski – frazeologia - słownik angielsko-po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ęzyk polski – frazeologia - słownik polsko-angiels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ukowo-techniczny słownik frazeologiczny :  angielsko-polski,  polsko-angielski / Piotr Domański. – Warszawa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ęzyk angielski – frazeologia – słownik angielsko-po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ęzyk polski – frazeologia – słownik polsko-angi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ka – terminologia - słownik angielsko-po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ka – terminologia - słownik polsko-angi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BDF-B6BE-4D35-8AA4-0EE3434665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łownik gwar polskich / Jan Karłowi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- dialekty i regionalizmy –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eszyński słownik gwarowy / [Józef Golec]. – Cieszyn,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- dialekty i regionalizmy -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Śląsk Cieszyński – język - słown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BAF-DBA7-4E75-B693-D9EAE4F7C5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łownictwo kociewskie na tle kultury ludowej / Bernard Szychta. – Wrocław,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- dialekty i regionalizmy -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ciewie – język - słown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elki słownik śląsko-niemiecko-angielski  / [Andrzej Czajkowski,  Lidia Schröder, Sandra Schröder]. – Katow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- dialekty i regionalizmy - słownik wielojęzy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Śląsk - język - słownik wielojęzy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4F3-55BA-48CE-BEF5-F6DB3A6C4C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łownictwo polszczyzny gwarowej na Litwie / Janusz Rieger, Irena Masojć, Krystyna Rutkowska. – Warszawa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- dialekty i regionalizmy – słownictwo - Lit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- dialekty i regionalizmy – Litwa –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łownik polszczyzny ziemi wileński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- dialekty i regionalizmy – Litwa –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no (Litwa ; okręg) – język -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1AD-F9CB-42C5-A94C-AAB8232BF6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łownik czasowników polskich / Stanisława Hrabcowa, Irena Kalińska. – Łódź, 19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zasownik polski – słow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lsko-angielski słownik form czasownikowych czyli Jak to powiedzieć po angielsku / Stanisław P. Kaczmarski. – Warszawa, 19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zasownik polski - słownik polsko-angiel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E4B-8446-4C92-9655-E5F7372699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3876840"/>
            <a:ext cx="755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ling, Hans (ca 1430-1494). Sąd Ostate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mling, Hans (ca 1430-1494). Laatste oord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zeum Narodowe (Gdańsk) - Sąd Ostatecz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nsa Meml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łtarz z Sądem Ostatecznym z kościoł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riackiego w Gdań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yptyk Sąd Ostateczny z kościoła Mariackieg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 Gdań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Gdańsk (woj. pomorskie) - kościół Mariac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9E4-1AFF-4AB6-BB2B-E7773CC95B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gielsko-polski słownik zootechniczny / pod red. Piotra Gronka – Poznań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technika – terminologia – słownik angielsko-pol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łownik ubiorów : tkaniny, wyroby pozatkackie, skóry, broń i klejnoty oraz barwy znane w Polsce od średniowiecza do początku XIX w. / Irena Turnay. – Warszawa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wy – terminologia – słownik pol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ń – terminologia – słownik pol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ęzyk polski – słownictwo – 14-19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iór – terminologia – słownik pols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21C-5D5E-466E-8BF4-8596CFFC15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yczesany słownik najmłodszej polszczyzny / Bartek Chęciński. – Kraków, 20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ęzyk środowiskowy polski - słow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łodzież – język – Polska – słow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p-hop : słownik / Piotr Fliciński, Stanisław Wójtowicz. – Warszawa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-hop – język – Polska - słow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ęzyk środowiskowy polski - słow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BF0-1CAF-4F00-94AF-AF7D7076A7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gielsko-polski słownik potocznego języka biznesu / Bożena Hoszowska. – Warszawa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ki ekonomiczne – terminologia - słownik angielsko-pol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ęzyk środowiskowy angielski - słownik angielsko-pol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DCC-BCAA-4286-AA82-6F19F20F82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y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ężowie st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  Elita wład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y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ywódcy i głowy pańs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ład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  Parlamentarzy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B1F-2422-4AFD-BBFD-161B0998CB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gnacy Daszyński : 1866-1936 / Walentyna Najdus. – Warszawa,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zyński, Ignacy - (1866-1936) - b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ska Partia Socjalistyczna (1892-1948) - bi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ycy – biografie – Polska - 19-20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8F0-EEF7-43BC-93BB-DA075CF5BBF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statni stańczyk : Michał Bobrzyński - portret konserwatysty / Waldemar Łazuga. – Poznań, 19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rzyński, Michał (1849-1935) - b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cy – biografie – Polska - 19-20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serwatyzm – biografie – Polska - 19-20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ycy – biografie – Polska - 19-20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icja - polity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A36-0DA7-41AD-97A1-C6379751F5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am Stanisław Grabowski (1698-1766) : biskup, polityk, mecenas / Jerzy Dygdała. – Olsztyn,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bowski, Adam Stanisław (1698-1766) - bi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chowieństwo katolickie – biografie – Polska - 18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enat – biografie – Polska - 18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ycy – biografie – Polska - 18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ińska, diecezja (katol.) – biografie - 18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D6C-6850-4599-AF76-12C205D173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nte jako polityk i publicysta : odczyt publiczny ku uczczeniu pamięci poety w Uniwersytecie Jana Kazimierza we Lwowie 25 listopada 1921 / Władysław Abraham. – Poznań, 19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te Alighieri - (1265-1321) - b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zja włoska – historia - 13-14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ycy – biografie – Włochy - 13-14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ystyka włoska – historia - 13-14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ncja (Włochy)  - 13-14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794-9F96-4115-B43D-86D715A4E59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ographic dictionary of Chinese Communism : 1921-1965 / Donald W. Klein, Anne B. Clark. -  Cambridge, Mass., 19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hongguo Gongchandang – biografie - słow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litycy – biografie – Chiny - 20 w. - słow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530-9237-439D-8EEE-4B42F27B7D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alność w działaniach polityków ostatnich dziesięciu lat : materiały z konferencji zorganizowanej przez Komisję Kultury i Środków Przekazu pod patronatem marszałka Senatu Longina  Pastusiaka, 7 maja 2002 r. / [oprac. Agnieszka Ojdowska]. – Warszawa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yka społeczna - materiały konferency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ycy – socjologia – Polska - od 1989 r. - materiały konferency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yka – etyka –  materiały konferency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B2A-059C-4869-8DCA-29EBDED722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182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wosz, Wit (1447?-1533). Ołtarz Mariacki w kościele Mariackim w Krakow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wosz, Wit (1447?-1533). Krakauer Hochal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wosz, Wit (1447?-1533). Krakauer Marienal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wosz, Wit (1447?-1533). Marienret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wosz, Wit (1447?-1533). Ołtarz Zaśnięcia N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łtarz Mariacki w Kościele Mariackim w Krakow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łtarz Wita Stwosza w Kościele Mariackim w Krakow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łtarz Zaśnięcia NMP w Kościele Mariackim w Krakow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raków (woj. małopolskie) - kościół Mariacki - ołtarz Mariac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raków (woj. małopolskie) - kościół Mariacki - ołtarz Wita Stwos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raków (woj. małopolskie) - kościół Mariacki - ołtarz Zaśnięcia N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D83-D777-4553-8BE3-49759F873E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riotyzm(y) polskich polityków : z badań nad świadomością liderów partyjnych lat dziewięćdziesiątych / Joanna Kurczewska. – Warszawa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e polityczne – ideologia – Polska - od 1989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otyzm – socjologia – Polska – od 1989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ycy – socjologia – Polska - od 1989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Świadomość narodowa – Polska - od 1989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B2C-4F8D-4A6D-9048-64E5AC13445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Śmiertelna choroba Hitlera i inne tajemnice nazistowskich przywódców / John K. Lattimer. – Warszawa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yzm - bi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ycy – biografie – Niemcy - 1933-1945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ycy – zdrowotność – Niemcy - 1933-1945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y norymberskie (1945-19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6B1-8894-4197-8F4C-9B2D9EF5870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leryzm - bi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tionalsozialistische Deutsche Arbeiterpartei - bi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EF2-B3F9-46EA-9BE6-EDCC2017DAC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arlamentarzy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U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osłowie do parla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osłowie do sej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enatorow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S   Funkcjonariusze public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lity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K   Biura poselskie i senators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luby parlament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dat poselski i senator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l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wa i obowiązki parlamentarzy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660-D750-49B0-9900-85CE083A372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ographie des neuf deputés a L'Assemblée Nationale par ordre  alphabétique de départements [...] / par une Société de Gens de  Lettres et de Publicistes sous la dir. de C. M. Lesaulnier. – Paris, 1848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arlamentarzyści – biografie – Francja - 19 w. - słow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25B-127C-4318-B08B-DD4F9870872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eksandr Ivanovič Gučkov / A. S. Senin. – Moskwa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čkov, Aleksandr Ivanovič (1862-1936) - b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lizm – biografie – Rosja - 19-20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lamentarzyści – biografie – Rosja - 1901-1914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ycy – biografie – Rosja - 19-20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95C-3837-4E9C-98E4-1681D45FEE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m Krajow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m Główny Księstwa Warszawsk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m Królestwa Polsk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m Prowincjonalny Wielkiego Księstwa Poznańsk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gromadzenie Reprezentantów Wolnego Miasta Krak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ło Polskie w parlamencie Rzes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ło Polskie w Dumie Państwow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7B1-6EDD-4303-82D7-21F04F44CDB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wa żałobna na pogrzebie Adama Łuszczewskiego posła  sochaczewskiego na sejm warszawski roku 1830 / miana w Oporowie dnia 7. maja 1853 przez Aleksego Prusinowskiego. - Poznań, 18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uszczewski, Adam - (1798-1853) - bi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jm Królestwa Polskiego (1830-1831) - bi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lamentarzyści – biografie – Polska - 19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wy pogrzebowe polskie - 19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lachta – biografie – Polska - 19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AED-85BF-4FCB-9685-4759C70686B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natorowie, posłowie i deputowani Księstwa Warszawskiego i Królestwa Polskiego / Małgorzata Karpińska. – Warszawa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m Główny Księstwa Warszawskiego - bi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m Królestwa Polskiego - bi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lamentarzyści – biografie – Polska - 19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ACE-CF0F-4751-8499-837FBF60545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onstanty Wolny marszałek Sejmu Śląskiego / Jadwiga Lipońska-Sajdak – Katowice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lny, Konstanty (1877-1940) - b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m Śląski - bi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lamentarzyści – biografie – Polska - 1918-1939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Śląsk, Górny - 1901-1939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205D-C930-4667-8091-DD8C7A696C1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9800" y="3780000"/>
            <a:ext cx="7234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aków (woj. małopolskie) - kościół Emaus - ołtarz głów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incken, Adam (1951- ). Ołtarz główny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ościele Emaus w Krakow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incken, Adam (1951- ). Tryptyk "Emau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ychowicz, Maciej (1957- ). Ołtarz główny w kościele Emaus w Krakow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ychowicz, Maciej|d(1957- ). Tryptyk "Emau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łtarz główny w kościele Emaus w Krakow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yptyk "Emaus" w kościele Emaus w Krakowie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raków (woj. małopolskie) - kościół Emaus - tryptyk "Emau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225-41FB-4FF3-8319-39524C0C44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tronnictwo Demokratyczne w Polsce Ludowej. T. 4, Nasi przedstawiciele : noty biograficzne posłów SD w sejmie PRL w kadencjach V, VI, VII / red. Wiktoria Beczek ; Andrzej Rajewski, Władysław Witold Spychalski. – Warszawa,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onnictwo Demokratyczne – biografie - 1944-1989 r. -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jm (1969-1972) – biografie -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jm (1972-1976) – biografie -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jm (1976-1980) – biografie -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rlamentarzyści – biografie – Polska - 1944-1989 r. - słow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F74-81CE-4D89-BB59-B7E3DECA1D3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sta posłów i deputowanych na seym roku 1820. – Warszawa, 18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jm Królestwa Polskiego (1820) - skład osob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lamentarzyści – Polska - 19 w. – s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apiski senackie : (październik 2001 - maj 2005) / Grzegorz Matuszak. – Łódź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szak, Grzegorz (1941- ) - pamięt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at RP (2001-2005) - pamięt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miętniki polskie - od 2001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lamentarzyści – Polska - od 2001 r. - pamięt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ska – polityka - od 2001 r. - pamięt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BD3-3E48-4D61-B275-10EDCC06415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rzy na 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  Chor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 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siciele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iciele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siciele wirusa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opozytyw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 Chorzy na 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siciels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E4F-4BDD-47CC-AD4F-B5C5C1EB1C2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ziecko chore na białaczk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   Chorzy na białaczk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ziecko chore na nowotw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rzy z chorobą Alzhei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zy na chorobę Alzhei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     Chor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pełnosprawni umysło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    Choroba Alzhei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959-E012-4A61-9BC4-8017263583C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rzy po transplant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orzy po przeszcze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     Chor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   Transplant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rzy po udarze móz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oplekty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orzy po zawale móz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     Chor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    Udar móz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B0C-E434-448B-9718-002BDB8D27A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świadczanie jakości życia po przeszczepie : perspektywa fenomenologiczno-hermeneutyczna / Iwona Cymerman. – Olsztyn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rzy po transplantacji - jakość życia – Polska - od 198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lantacja – socjologia – Polska - od 198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habilitacja po udarze mózgu : zasady i strategia / Polly Laidler. – Warszawa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rzy po udarze mózgu - rehabilit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082-4B7D-4427-9C37-56963298F19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utecznie i profesjonalnie  : poradnik dla organizacji pozarządowych pracujących na rzecz dzieci i dorosłych z autyzmem i  nie tylko / pod red. Anny Rajner i Michała Wroniszewskiego. – Warszawa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ystycy - opieka społeczna - porad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ystycy – rehabilitacja - porad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ytucje nonprofit – organizacja - porad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30E-3F62-4F3F-9EA2-F644BE4EDE9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zwój dzieci z guzami mózgu / Agnieszka Maryniak. – Warszawa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ziecko chore na nowotwory - psych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ziecko chore na nowotwory - rozwój psychofizycz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ózg – nowotwory - pedia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a klinicz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23F-BA05-48D7-A640-1546F3491A3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uchnia dla cukrzyków / [oprac. tekstu Ewa Aszkiewicz]. – Zielona Góra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krzyca – dietety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eta w chorobach nowotworowych : przewodnik po dietach wspomagających terapie antyrakowe / Maureen Keane, Daniela Chace. – Warszawa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otwory – dietetyka - wydawnictwa popula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E9D-A8F8-4EBA-9666-60B2B0E510D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roba trzewna – le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oroba trzewna – dietet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eta bezgluten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czywo bezgluten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adnik kulinarny dla chorych na celiakię i alergie pokarmowe / Danuta Mickiewicz-Wichłacz. – Poznań,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rgia pokarmowa – dietetyka - wydawnictwa popul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roba trzewna – leczenie - wydawnictwa popul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A0A-6CDD-45E2-ADDD-B7B50F78B43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łocławek (woj. kujawsko-pomorskie) - katedra Wniebowzięcia NMP - tryptyk z Matką Boską Apokaliptyczną, ze św. Katarzyną i św. Barbar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ebrny ołtarz darłow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758-F020-4D60-99E2-2F577F9AF7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y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ztuka - zaw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  Zaw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Sztu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órcz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 Aktor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k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yści cyrko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yści plasty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tografow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żyserz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18B-C0A6-420D-A08F-DAF6FCA4172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cek Malczewski : człowiek i artysta / Adam Heydel. – Radom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czewski, Jacek (1854-1929) - b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rze – biografie – Polska - 19-20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leg Popov / V. Angarskij, A. Viktorov. – Moskwa, 19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ov, Oleg Konstantinovič (1930- )| - b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uni – biografie - ZS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CDC-A293-4168-90B9-E82198D51B5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jologia artysty / Marian Golka. – Poznań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yści – socj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we emerytury i renty 92/93  (Poradnik dla niekoniecznie bezradnych artystów) / Aleksander Szrom. – Katowice,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yści – ubezpieczenia – prawo – Polska - stan na 1993 r. - porad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Świadczenia społeczne – prawo – Polska - stan na 1993 r. - porad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E9B-633D-49B8-AA00-AF811555AB7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olwenci szkół wyższych - pr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solwenci szkół wyższych – zatrudni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solwenci szkół średnich - pr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Absolwenci szkół średnich – zatrudni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łodzież - pr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Młodzież - zatrudni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  Praca młodocia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447-C4A1-4847-9224-B64B5334A16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lacy na Syberii Wschodniej : zesłańcy polityczni w okresie międzypowstaniowym / Franciszek Nowiński. – Gdańsk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słania – Rosja - 19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cy za granicą - Syberia (Rosja) - 19 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zieje Polaków na Syberji / Michał Janik. – Kraków, 19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ęźniowie polityczni – Polska - 18-20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słania – Rosja - 18-20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cy za granicą – Rosja - 18-20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beria (Rosja) - 18-20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A44-5A22-4279-AA3E-E1A82F8D3E9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łocławek (woj. kujawsko-pomorskie) - katedra Wniebowzięcia NMP - tryptyk z Matką Boską Apokaliptyczną, ze św. Katarzyną i św. Barbar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łtarz Matki Boskiej Apokaliptycznej, ze św. Katarzyną i św. Barbarą w katedrze Wniebowzięcia NMP we Włocław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yptyk z Matką Boską Apokaliptyczną, ze św. Katarzyną i św. Barbarą w katedrze Wniebowzięcia NMP we Włocław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łocławek (woj. kujawsko-pomorskie) - katedra Wniebowzięcia NMP - ołtarz Matki Boskiej Apokaliptycznej, ze św. Katarzyną i św. Barbar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330-A578-4D67-8FAB-63D52E1221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ebrny ołtarz darłow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rłowo (woj. zachodniopomorskie) - kościół Mariacki - srebrny ołt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rłowski, ołt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zeum Pomorza Środkowego (Słupsk) - srebrny ołtarz      darłow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łtarz darłowski srebr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ügenwalder Silberal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D81-E276-4427-910A-066813E8E9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nica (woj. dolnośląskie) - kościół św.św. Piotra i Pawła – ołtarz główny daw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łtarz główny dawny kościoła św.św. Piotra i Pawła w Legn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003-D2B7-4E5C-9D30-31E7346432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1:53:02Z</dcterms:created>
  <dc:creator>a.stolarczyk</dc:creator>
  <dc:description/>
  <dc:language>en-US</dc:language>
  <cp:lastModifiedBy>a.stolarczyk</cp:lastModifiedBy>
  <dcterms:modified xsi:type="dcterms:W3CDTF">2008-06-20T12:49:13Z</dcterms:modified>
  <cp:revision>81</cp:revision>
  <dc:subject/>
  <dc:title>Slajd 1</dc:title>
</cp:coreProperties>
</file>