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418-BDB6-4268-9B14-17E02C89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B89-D7A5-41D6-B4DF-DE6BC565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E04-1F13-40DC-A293-4919B152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CC4-0ED2-4050-91DE-B683F2E2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8B6E-9FF2-42CA-BA43-3A42FA2A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5827-8770-437C-9A70-AFD86246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30F3-575E-4254-B821-A4DFA952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F717-30A5-4A34-A2B5-FDE72854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A430-B754-49A6-B9E9-E28FD08A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BBFD-3F18-479B-A3E6-854D28E1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775E-FD7C-4F5D-8B8B-0F87281E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2CF0-1822-4F36-9AF0-EFD9823B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D721-EC50-4DFF-A542-0A36983D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6811-E4DC-4903-B29E-3EB4CBEA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1A0D-37AB-48EF-97D2-D2B82F69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B1D7-28EE-41E7-B64B-7E84C0B8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AC35-49B5-4D2D-BAA1-697A99ED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B57-7D4E-482D-ADAA-D4CFBAB1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728-C3CC-4CA7-8F4D-112EA768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980-8165-4F65-8E7A-A69238D1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D30-6D3F-47DA-BA32-C8C160BA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21E-AD7F-411F-8CE4-83FFE999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37C8-81DF-4681-A001-4534E5B4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875-E91C-4013-87B1-8EAA25DF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9296-AF34-45B3-AB9D-7B7BE119D433}" type="slidenum">
              <a:rPr b="0" lang="pl-P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1FF3-514B-4E96-A2B5-0A95EBB864E2}" type="slidenum">
              <a:rPr b="0" lang="pl-P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1267920"/>
            <a:ext cx="7561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kreślniki chronologiczne w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bliografii Zawartości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zasopis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42880" indent="-5428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Określnikami są stuleci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2880" indent="-5428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Określniki wyrażone w postaci stuleci lub dat mogą być łączone, np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18360" indent="-4705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19-20 w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18360" indent="-4705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1918-1939 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2880" indent="-5428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Okresy sprzed naszej ery oznacza się p.n.e., np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18360" indent="-4705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4 w. p.n.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18360" indent="-4705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14-13 w. p.n.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183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Jeżeli nie może sprecyzować początku omawianego zagadnienia, ale jest określony jego koniec stosujemy określniki z przyimkiem „do”, np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do 19 w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do 15 w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Określniki te nie są uwzględniane w kartotece wzorcowej, tworzone są na potrzeby dokumentu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Określniki z przyimkiem „od” = od oznaczonego początku do współczesności, np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od 1944 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od 2001 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Nie stosujemy tych określników z datą wyrażającą wiek, np. od 16 w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Określniki te kontrolowane są kartoteką wzorcow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Określniki dla 20 i 21 w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określniki ogólnego stosowania, n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1901-1914 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1901-1939 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1918-1939 r. z wyjątkiem: Niemiec, Czechosłowacji, Austri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od 1945 r. z wyjątkiem tych krajów, po których stosuje się określnik od 1944 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od 1989 r. z wyjątkiem tych krajów, po których stosuje się określnik od 1991 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od 2001 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określniki dla 20 i 21 w. związane z tematem lub określnikiem geograficznym, n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1940-1991 r. dla Estonii, Litwy, Łotw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od 1944 r. dla Bułgarii, Polski, Rumuni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1917-1941 r. dla ZSRR i dla części składowych federacj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od 1991 r. dla Albanii, Jugosławii, krajów byłej Jugosławii, Rosji, krajów byłego ZSR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od 1993 r. dla Czech i Słowacj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Dla Czechosłowacji, Niemiec, Polski i ZSRR określniki dla 20 i 21 w. są rozbudowan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np. dla Niemie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1918-1933 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1918-1945 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1933-1945 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1945-1949 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1989-1990 r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od 1990 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la Polsk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1944-1956 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1944-1989 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1956-1989 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1970 r. – po tematach: Elbląg, Gdańsk, Gdynia, Szczeci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1980-1981 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1980-1989 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d 1944 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d 1980 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kreślnik szczegółowy od 1965 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suje się tematach związanych z historią Kościoła Katolickiego, teologią katolicką oraz po określniku katolicyzm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otyczy to jednak dokumentów poświęconych Kościołowi w wymiarze powszechnym, nie dotyczy spraw o zasięgu lokalny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kreślnik szczegółowy od 2004 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ystępuje po nazwach krajów, które wstąpiły do UE po 2004 r. i po temacie i określniku Unia Europejs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e stosuje się go tylko dla tych dokumentów, w których problematyka unijna jest wyeksponowana, nie do opisu wszystkich spraw dotyczących tych państw po przystąpieniu do UE.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Określniki chronologiczne po nazwach województw utworzonych po 1999 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Po nazwach województw utworzonych po 1999 r. , np. Mazowieckie, województwo, Małopolskie, województwo, Łódzkie, województwo (od 1999) nie stosuje się określników chronologiczny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Wyjątkiem są określniki chronologiczne w postaci daty rocznej po określnikach: klęski elementarne, wybory samorządowe, środowisk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kreślniki chronologiczn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42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kalizują przedmiot w czasie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42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skazują czas, w którym zagadnienie omawiane w dokumencie miało miejs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kreślniki chronologiczne powinny być stosowane w hasłach przedmiotowych dla tych dokumentów, które mają nacechowanie historyczn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Określniki chronologiczne zawierające daty roczn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stan na... (rok) - stan na... (rok) – stosuje się go po tematach z dziedziny prawa, określnikach podział administracyjny, ordynacja oraz po tematach dotyczących monitoringu środowiska człowieka, n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Dziedziczenie praw majątkowych w świetle polskiego prawa autorskiego / Piotr Slęz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Majątek – prawo – Polska – stan na 2007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Prawo autorskie – Polska – stan na 2007 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Normalniej czyli inaczej / Mariusz Urban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Wybory parlamentarne – ordynacja – Polska – stan na 2005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%Polska po 1999 r. / Zdzisław Sadows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1 %Polska – podział administracyjny – stan na 1999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55800" y="820440"/>
            <a:ext cx="78134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Określnik chronologiczny po tematach wyrażających wybory wszelkiego typu i szczebla (np. parlamentarne, samorządowe do Parlamentu Europejskiego) oraz po temacie i określniku klęski elementarne, n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Kilka uwag o francuskich wyborach prezydenckich / Jan Malews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Wybory prezydenckie – Francja – 2007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45 %Podlaska lekcja / Lech Nikows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50 %Wybory samorządowe – Polska – 2006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51 %Podlaskie, województwo – wybory samorządowe – 2006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45 %Powódź w Legnicy 1977 rok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50 %Powódź – Polska – 1977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51 %Legnica (woj. dolnośląskie) – klęski elementarne – 1977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45 %Pożar Konina 24 czerwca 1796 roku / Zdzisław Włodarczy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50 %Pożar – Polska – 1796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51 %Konin (woj. wielkopolskie) – klęski elementarne – 1796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Określniki chronologiczne zawierające daty dane chronologiczn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zamach + data roczna (określnik ten stosuje się po tematach osobowych), n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Poderwały się gołębie / Stanisław Zas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00 %Jan Paweł II (papież ; 1920-2005) – zamach 1981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66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określnik zjednoczenie + data roczna (określnik ten stosuje się po nazwach państw i regionów świata), n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Polska wobec zjednoczenia Niemiec 1989-1991 / Jan Barc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1 %Niemcy – zjednoczenie 1989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Królestwo Włoch w 19 w. / Anna Barańs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1 %Włochy – zjednoczenie 1861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określnik konstytucja + data roczna (określnik ten stosuje nazwach państw i regionów świata), np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245 %Włoskie państwo regionalne / Małgorzata Lorenc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650 %Regiony (adm.) - Włoch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651 %Włochy – konstytucja 1947 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245 %Czy podstawy do kasacji są zgodne z Konstytucją RP / Dorota Szubiels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650 %Kasacja – prawo – Pols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651 %Polska – konstytucja 1997 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W BZCz rozszerzono stosowanie dat rocznych na określnik imprezy, konkursy i festiwale, sprawozdanie, statystyka, np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Między ogrodem Semiramidy a domem : po koncercie zapowiadającym budowę gmachu filharmonii w Szczecinie / Agnieszka Roguls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10 %Filharmonia Szczecińska im. Mieczysława Karłowic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Muzyka – imprezy – Polska – 2006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1 %Szczecin (woj. zachodniopomorskie) – muzyka – imprezy – 2006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245 %Kontakt ’07 / Marek Wendorf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611 %Międzynarodowy Festiwal Teatralny „Kontakt” (17 ; 2007 ; Toruń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650 %Teatr – konkursy i festiwale – Polska 2007 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651 %Toruń (woj. kujawsko-pomorskie) – teatr – konkursy i festiwale – 2007 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245%Sprawozdanie dyrektora Archiwum Państwowego w Krakowie za rok 2004 / Sławomir Rado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610 %Archiwum Państwowe (Kraków) – 2004 r. – sprawozdan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651 %Kraków (woj. małopolskie) – archiwistyka – od 2001 r. - źródł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Określniki chronologiczne po tematach z dziedziny literatury, sztuki i filozof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o tekstach literackich, filozoficznych, teologicznych – stosuje się określnik w postaci wieku, wyraża on okres powstania utworu, n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Życiorys bliźniaka / Roman Orzels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Opowiadanie polskie – 21 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53560" y="1906200"/>
            <a:ext cx="756612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Określników chronologicznych nie stosujem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25600" indent="-5256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jeżeli przedmiot w swej nazwie zawiera element czasowy, n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Wojna 1939-1945 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Marzec 1968 r. w Pols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Rewolucja 1989 r. aksamit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Układ z Schengen (1985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Sejm (1596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25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25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Elegia III / Jacek Biere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Poezja polska – 20 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Młoda poezja hiszpańska / tł. Paweł Krup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Poezja hiszpańska – 20 w. - antolog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Elementy filozofii / Procul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Filozofia – 5 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Afraat o miłośc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Miłość – teologia – 5 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Patrologia – 5 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 opracowaniach na temat literatury, sztuki, filozofii stosuje się określniki szczegółowe przewidziane dla 20 i 21 w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45 %Czas maszyn, czas niepoprawnych głupców / Wojciech Rusin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50 %Powieść polska – historia – 1918-1939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45 %Jaka jesteś współczesna poez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50 %Poezja polska – historia – od 1989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Określniki chronologiczne w opracowaniu pamiętnikó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o temacie pamiętniki stosuje się określniki szczegółowe, które odnoszą się do okresu omawianego w pamiętnikach niezależnie od daty powstania czy publikacji pamiętników, n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Początki władzy ludowej w zapiskach Jana Karola Wendego / oprac. Andrzej Winogrodz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00 %Wende, Jan Karol (1910-1986) – pamiętni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Pamiętniki polskie – 1944-1956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1 %Polska – polityka wewnętrzna – 1944-1956 r. – pamiętni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Okruchy dziennika / Mieczysław Franciszek Rakows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00 %Rakowski, Mieczysław Franciszek (1926- ) – pamiętni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Pamiętniki polskie – od 2001 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1 %Polska – polityka wewnętrzna – od 2001 r. - pamiętni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Określniki chronologiczne po temacie „nazwa narodowości za granicą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o temacie typu „nazwa narodowości za granicą”  określnik chronologiczny odnosi się do określnika geograficznego występującego w danym haśle przedmiotowym, np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Liczba i rozmieszczenie ludności niemieckiej w powiecie kartuskim w okresie międzywojennym oraz działania mniejszości niemieckiej w obronie swej pozycji / Barbara Kąk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Mniejszości narodowe – Polska - 1918-1939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Niemcy za granicą – Polska – 1918-1939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1 %aKartuzy (woj. pomorskie ; okręg) – stosunki etniczne – 1918-1939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Polacy w Niemczech między wojnami / Dariusz Matels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Mniejszości narodowe – Niemcy – 1918-1945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Polacy zagranicą – Niemcy – 1918-1945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Jeżeli w haśle nie występuje określnik geograficzny należy użyć określnik chronologiczny ogólnego stosowania, n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Emigracyjna dyplomacja / Tomasz Misiewic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10 %Rząd Rzeczypospolitej na uchodźstwie – 1944-1989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Polacy za granicą – polityka – 1945-1989 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 same zasady dotyczą tematów związanych z tematem Polacy za granicą: Duszpasterstwo polonijne, Organizacje polonijne, Szkolnictwo polonijne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45 %Duszpasterstwo Polaków na Litwie w procesie przemian / Adam Bobryk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650 %Duszpasterstwo polonijne – Litwa – od 1991 r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650 %Mniejszości narodowe – Litwa – od 1991 r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650 %Polacy za granicą – religia  – Litwa – od 1991 r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45 %Polska organizacje w Wiedniu / Hanna Kaczmarczy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50 %Mniejszości narodowe – Austria – od 1945 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50 %Organizacje polonijne – Austria – od 1945 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51 %Wiedeń (Austria) – organizacje – od 1945 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45 %Szkoły polskie we Lwowie (1994-2004) / Bożena Rafals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50 %Mniejszości narodowe – Ukraina – od 1945 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50 %Szkolnictwo polonijne – Ukraina – od 1945 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51 %Lwów (Ukraina) – szkolnictwo i oświata – od 1945 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Określnik chronologiczny po temacie Czasopisma polskie w innych krajach dotyczy tematu nie określnika geograficznego, n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Model „Kultury” / George G. Grabowic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30 %Kultura (czasop.emigr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Czasopisma polskie – historia – Francja – 1944-1989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Polacy za granicą – kultura – Francja – 1945-1989 r.</a:t>
            </a: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dla tematów i określników geograficznych (nazwy państw), jeśli okres ich istnienia jest ściśle określony, n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Niemcy (Republika Demokratyczn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Niemcy (Republika Federaln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ZSRR (dla okresu 1917-199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Czechosłowacja (dla okresu 1918-199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Wyjście z Walhalii / Marianna Zielińs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1 %Niemcy (Republika Federal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Określniki ogólne, po których nie stosujemy określników chronologicznych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określniki: zbiory, recepcja, przekłady – określnik chronologicznych sprawia, że hasło nie jest jednoznaczne, n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Rysunek polski – zbiory – Francja – 20 w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ożna odczytać: zbiory dwudziestowiecznego rysunku polskiego w Francji lub zbiory rysunku polskiego we Francji 20 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Recepcja twórczości Wiktora Pelevina / Arkadiusz Witec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00 %Pelevin, Viktor O. (1962- ) – recepcja - Pols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Literatura rosyjska – historia – od 1991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Literatura rosyjska – recepcja – Pols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245 %Fałszywi przyjaciele tłumacza w kontekście rosyjskich przekładów powieści J. I. Kraszewskiego „Hrabina Cosel” / Rustem Yunuso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00 %Kraszewski, Józef Ignacy (1812-1887). Hrabina Cosel – przekłady rosyjsk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Powieść polska – historia – 19 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Powieść polska – przekłady rosyjsk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650 %Przekłady rosyjskie – historia – 19-20 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kreślniki historiografia (=w historiografii), literatura (=w literaturze), w filmie, w muzy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45 %Stan badań nad regionem świętokrzyskim w czasach II wojny światowej / Stanisław Medyc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50 %Historiografia polska – od 1989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51 %Kielce (woj. świętokrzyskie ; okręg) – 1939-1945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51 %Kielce (woj. świętokrzyskie ; okręg) – historiograf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45 %Różne twarze kobiety w ujęciu Elizy Orzeszkowej / Dominika Chu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0 %Orzeszkowa, Eliza (1841-1910) – twórczoś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50 %Kobieta – literatura pols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50 %Literatura polska – tematyka – 19-20 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45 %Kto wygrał tę wojnę / Konrad J. Zarębsk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50 %Film polski – tematyka – 1944-1989 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50 %Wojna 1939-1945 r. – w film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45 %A to PRL właśnie / Katarzyna Waj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50 %Komedia filmowa polska – tematyka – 1944-1989 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51 %Polska – w film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Tematy rzeczowe (treściowe) zawierające datę (dawniej zwane tematami chronologicznymi), n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Podziemie polityczne i zbrojne (1944-1956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Polska Partia Robotnicza (1906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Polska Partia Robotnicza (1942-1948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tak terrorystyczny na szkołę w Biesłanie 2004 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Sejm (1991-1993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Bitwa 20-29 września 1920 r. nad Niemn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245 %Madryt, 11 marca / Małgorzata Kolankowsk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650 %Atak terrorystyczny w Madrycie 2004 r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245 %Irak i terroryzm / Julian Bartosz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650 %Atak terrorystyczny na Stany Zjednoczone 2001 r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650 %Wojna 2003- amerykańsko-irack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245 %Budapeszt 1956 / Joanna Mieszko-Wiórkiewicz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650 %Powstanie 1956 r. węgiersk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245 %Kircholm 1605 / Tomasz Bohu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650 %Bitwa 1605 r. pod Kircholme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SŁO PRZ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wstanie 1953 r. w Berlin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SŁO PRZED ODR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rliński czerwiec 1956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SŁO PRZED ODR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zerwiec 1953 r. w Berlin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SŁO PRZED ODR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wstanie berlińsk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SŁO PRZED ODR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wstanie w Berlin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SŁO PRZED ODRZ      Wydarzenia 1953 r. w Berlin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SŁO PRZ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ktat brzeski z Rosją (191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SŁO PRZED ODR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zeski traktat pokojowy z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sją (191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SŁO PRZED ODR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kój brzeski z Rosją (191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SŁO PRZED ODR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ktat brzeski (3.03.191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53560" y="1819440"/>
            <a:ext cx="756612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75840" indent="-3758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żeli temat związany jest z konkretnym okresem historycznym lub wydarzeniami historycznym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348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ty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348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resjoniz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348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omantyz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348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osna Ludów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348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uch opo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348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locau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566120" cy="35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przy zagadnieniach i przedmiotach, o których wiadomo, że związane są z określonym czasem, np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Globalizac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rywatyzac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Transformacja systemy społeczno-gospodarczeg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Gospodarka oparta na wiedz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Sztuczny sateli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71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45 %W tyglu transformacji / Wojciech Gliw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50 %Transformacja systemu społeczno-gospodarczego – Pols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45 %Nadzieje i zagrożenia globalizacji / Tadeusz Pil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50 %Globalizac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45 %Stan i perspektywy rozwoju społeczeństwa informacyjnego w Polsce / Celina M. Olsz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50 %Społeczeństwo informacyjne – Pols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45 %Prywatyzacja polskiej gospodarki / Malwina Szczepkows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50 %Prywatyzacja – Pols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51 %Polska – gospodarka – od 1989 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dla najnowszych  kierunków w sztuce, np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Instalacja (szt.plast.)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po tematach osobowych, z wyjątkiem określnika zamach, ponieważ element czasowy określony jest latami życia danej oso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kreślniki chronologiczne mają w  JHP BN charakter uogólniając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kreślniki wyrażane są cyframi arabskimi i uzupełnione skrótem w. (wiek/wieki) lub r. (rok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la wieku XX i XXI określniki podzielone są na daty roczne, dotyczy to historii krajów europejskich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8:06:34Z</dcterms:created>
  <dc:creator>b wieczorkowska</dc:creator>
  <dc:description/>
  <dc:language>en-US</dc:language>
  <cp:lastModifiedBy>a.stolarczyk</cp:lastModifiedBy>
  <dcterms:modified xsi:type="dcterms:W3CDTF">2008-06-13T12:44:43Z</dcterms:modified>
  <cp:revision>29</cp:revision>
  <dc:subject/>
  <dc:title>Zakład Retrokonwersji</dc:title>
</cp:coreProperties>
</file>