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ina Grochowsk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rakterystyka treściowa wydawnictw ciągły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na.grochowska@biblpubl.waw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744640"/>
            <a:ext cx="9144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ieści : tygodnik społeczno polityczny poświęcony sprawom wsi. – Kraków, 1957-199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ludow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10 Zjednoczone Stronnictwo Lud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10 Polskie Stronnictwo Ludowe "Odrodzeni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835360"/>
            <a:ext cx="9144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eszyty Dydaktyczno-Naukowe WSHGiT / Wyższa Szkoła Hotelarstwa, Gastronomii i Turystyki ; [Łukasz Szymański red. nacz.]. – Warszawa, 2006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nauk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telarstwo –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urystyka –  czasopisma     [= Czasopisma turystyczn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astronomia - czasopism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35360"/>
            <a:ext cx="9144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ace Naukowe. Transport / Politechnika Radomska [im. Kazimierza Pułaskiego ; red. nauk. Jan Kacprzak]. -  Radom, 1996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technicz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ransport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4703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m Dziecko : magazyn dla rodziców. -  Warszawa,  2003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poradnikowe pols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ziecko  -  higiena 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ziecko -  żywienie  - 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ziecko – rozwój fizyczny –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ydaje się, że w przypadku czasopism poradnikowych można użyć ogólnego tema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ziecko –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52840"/>
            <a:ext cx="914400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datki i Prawo w Praktyce / red. nacz. Mira Malicka. – Warszawa, 1997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ekonomicz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prawnicz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datki –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y te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datki – prawo -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19320"/>
            <a:ext cx="91440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D RTV Polska : miesięcznik branżowy dla handlowców : organ prasowy PI AGD / [red. nacz. Tomasz Charążka]. -  [Warszawa], 2001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fachow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andel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rtykuły gospodarstwa domowego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afta &amp; Gaz Biznes : wiadomości z kraju i ze świata / red. nacz. Ryszard Cygan. – Kraków, 1997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ekonomicz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az ziem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handel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af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handel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95280"/>
            <a:ext cx="914400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iadomości Naftowe i Gazownicze / Stowarzyszenie Naukowo- Techniczne Inżynierów i Techników Przemysłu Naftowego i Gazowniczego ; red. nacz. Jacek Munia. – Kraków, 1998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technicz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afta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az ziemny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uto Import. – Kraków, 1991. - Niere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poradnikow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amochody – handel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927520"/>
            <a:ext cx="914400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Varia : pismo Miejskiej Biblioteki Publicznej im. Stanisława Grochowiaka w Lesznie. – Leszno, 1999-. Nie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ejska Biblioteka Publiczna im. Stanisława Grochowiaka (Leszno) - czasop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bibliotekarskie pols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eszno (woj. wielkopolskie ; okręg) – bibliotekarstwo -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19320"/>
            <a:ext cx="914400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Zausznik : informator przyrodniczy gminy Przygodzice : [biuletyn informacyjny Kartoteki Przyrodniczej Gminy Przygodzice (KPGP)] / red. Mateusz Matysiak. – Przygodzice, 1995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zasopisma przyrodnicz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zasopisma regionalne i lokal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arycz (dolina) - fauna i flora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zygodzice (woj. wielkopolskie ; okręg) –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2728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36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19320"/>
            <a:ext cx="91440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asze Pismo : organ Stowarzyszenia Urzędników Państwowych / red. Józef Ciembroniewicz. -  Warszawa, 1921-192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owarzyszenie Urzędników Państwowych - czasop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związkowe polskie - 1918-1939 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rzędnicy – organizacje – Polska - 1918-1939 r. - czasop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łos Niższych Funkcjonarjuszów i Pracowników Państwowych / [Zarz. Gł. Związku Niższych Funkc. Państw. Rzplitej Pol. ; red. Karol Mozgała]. – Warszawa, 1927-1939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związkowe polskie - 1918-1939 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rzędnicy – organizacje – Polska - 1918-1939 r. - czasop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981080"/>
            <a:ext cx="9144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owiązkowym elementem charakterystyki treściowej wydawnictwa ciągłego jest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emat ogólny etniczn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któremu towarzyszyć mogą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temat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góln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wskazujące dziedzinę lub treść czasopisma,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emat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orporatywn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w przypadku biuletynów, roczników określonych instytucji lub partii politycznych) oraz tematy geograficzne wskazujące obszar geograficzny, którego dotyczy treść danego wydawnictwa ciągł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9528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iuletyn Instytutu Chemii UJ : pismo członków NSZZ Solidarność. -  [Kraków], 1982. - Niere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SZZ "Solidarność"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związkow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raków (woj. małopolskie) - szkolnictwo wyższe - organizacje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10 2 Niezależny Samorządny Związek Zawodowy "Solidarność" (Uniwersytet Jagielloński. Instytut Chemi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09680"/>
            <a:ext cx="914400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iuletyn Informacyjny Solidarność MPK. -  Kraków  -Niere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SZZ "Solidarność". Komisja Zakładowa przy Miejskim Przedsiębiorstwie Komunikacyjnym (Kraków)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związkow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raków (woj. małopolskie) - 1980-1989 r.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iuletyn Strajkowy /Akademia Górniczo-Hutnicza w Krakowie. – Kraków, 198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SZZ "Solidarność"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związkow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rajki – Polska - 1980-1981 r.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raków (woj. małopolskie) - szkolnictwo wyższe - organizacje 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10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kademia Górniczo-Hutnicza im. Stanisława Staszica (Krakó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3880"/>
            <a:ext cx="91440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omunikat Izby Rzemieślniczej w Krakowie / Wyd. Izba Rzemieślnicza w Krakowie ; red. W. Szydłowski. -  Kraków,  193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zba Rzemieślnicza (Kraków) -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fachowe polskie – 1918-1939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zemiosło - organizacje - Polska - 1918-1939 r. -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raków (woj. małopolskie) – rzemiosło – organizacje – 1918-1939 r. –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zemieślnik Śląski : dwutygodnik poświęcony zagadnieniom życia gospodarczego i zawodowego rzemiosła i drobnego przemysłu na Śląsku /  Izba Rzemieślnicza Woj[ewództwa] Śląsk[iego]. - Katowice 1929-1949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fachowe polsk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zemiosło -  Polska -  czasop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Śląsk, Górny  -  rzemiosło -  czasopisma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76520"/>
            <a:ext cx="91440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zemiosło :  miesięcznik /  wydawany przez Radę Izb Rzemieślniczych Rzeczpospolitej Polskiej przy współudziale Izb Rzemieślniczych ; red. Mieczysław Grzybowski. – Warszawa, 1932-1950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zemiosło - organizacje - Polska - 20 w. –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10 |a Rada Izb Rzemieślniczych RP (Warszaw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10 |a Związek Izb Rzemieślniczych Rzeczypospolitej Polski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10 |a Samorząd Gospodarczy Rzemiosła (Warszaw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905120"/>
            <a:ext cx="9144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.O.P. : pismo Centralnego Okręgu Przemysłowego / Centralny Okręg Przemysłowy ; red. S. Piotrowski. – Sandomierz, 1938-193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ekonomiczne polskie - 1918-1939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ska – gospodarka - 1918-1939 r. - czasopis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523880"/>
            <a:ext cx="914400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ustria-Polska : czasopismo gospodarczo-kulturalne / [Towarzystwo Austriacko-Polskie w Wiedniu ; red. nacz. Theodor Kanitzer]. – Wiedeń, 1969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społeczno-kulturalne pols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ustria - a Polska -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ska - a Austria –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gegnung mit Polen : Zeitschrift für deutsch-polnische Verständigung / [red.] Paul Wolf [et al.]. – Düsseldorf, 1964-198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polityczne niemieck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iemcy – polityka – Polska - czasop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ska – polityka – Niemcy - czasop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905120"/>
            <a:ext cx="9144000" cy="34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ter Finitimos : informator naukowy do badań nad stosunkami polsko-niemieckimi. – Wyd. polskie]. -  Kraków, 1992-.  Równol. podtyt.: wissenschaftlicher Informationsdienst deutsch-polnische Beziehun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historyczne niemiec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iemcy - a Polska – historiografia  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ska - a Niemcy – historiografia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95280"/>
            <a:ext cx="914400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iuletyn Polsko-Amerykańskiej Izby Handlowej /Polsko-Amerykańska Izba Handlowa ; red. Michał Kwapiszewski.Warszawa1938-1939.[R.1], 1938 - [R.2], 193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ekonomiczne polskie - 1918-1939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ska - a Stany Zjednoczone – handel - 1918-1939 r. –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any Zjednoczone - a Polska – handel - 1918-1939 r. –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meryka : miesięcznik Amerykańsko-Polskiej Izby Handlowo-Przemysłowej w Polsce. - Warszawa : Amerykańsko-Polska Izba Handlowo-Przemysłowa w Polsce, 1923-192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.1 (1923)-R.2 (192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ekonomiczne polskie - 1918-1939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ska - a Stany Zjednoczone – gospodarka - 1918-1939 r. –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any Zjednoczone - a Polska – gospodarka - 1918-1939 r. -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676520"/>
            <a:ext cx="91440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ystąpienia Generalne Rzecznika Praw Dziecka. -  Warszawa,  2004-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prawnicze pols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zecznik praw dziecka - Pols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awa dziecka - Polska - od 2001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omunikat z Badań / Centrum Badania Opinii Społecznej. -  Warszawa,  2005-. Niere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pinia publiczna -  Polska -  od 1989 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ska  -  socjologia -  od 1989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95280"/>
            <a:ext cx="9144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Ziemia Raciborska : miesięcznik historyczno-przyrodniczy 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[red. nacz. Grzegorz Wawoczny]. – Racibórz, 1998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zasopisma regionalne i lokal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zasopisma historyczne pols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zasopisma przyrodnicz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acibórz (woj. śląskie ; okręg) – czasopis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28800"/>
            <a:ext cx="914400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nnual Bulletin of Statistics of World Trade in Steel / Economic Commission for Europe = Bulletin Annuel de Statistiques du Commerce Mondial de l'Acier / Commision Economique pour l'Europe = Ežegodnyj Blleten' Statistika Mirovoj Torgovli Stal' / Evropejskaâ Ekonomičeskaâ Komissiâ. - New York ; Geneva. Opis na podstawie: 199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ekonomicz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al – handel - czasop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al – handel - od 1989 r. - statysty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066680"/>
            <a:ext cx="91440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słaniec Świętego Brata Alberta / [Fundacja im. Brata Alberta]. -  Radwanowice, 2000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undacja im. Brata Alberta (Radwanowice)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społeczno-kultural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iepełnosprawni - opieka społeczn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olska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adwanowice (woj. małopolskie)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woja Praca / [red. nacz. Zbigniew Biskupski]. -  Warszawa, 199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społeczno-kultural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aca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ieczory Świetlicowe : czasopismo poświęcone zajęciom praktycznym w świetlicy / Poleski Związek Teatrów i Chórów Ludowych w Brześciu nad Bugiem; [red. Ferdynand Peszek]. - Brześć n/B, 1936-193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społeczno-kulturalne polskie - 1918-1939 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aca kulturalno-oświatowa - czasop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spólne Tematy : pismo pracowników socjalnych, terapeutów, personelu pielęgniarskiego i opiekuńczego / [red. nacz. Agnieszka Smrokowska-Reichmann].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rynica, 1998-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fachowe polsk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pieka społeczna - czasop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44640"/>
            <a:ext cx="9144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ozprawy Muzeum Narodowego w Krakowie.  Seria Nowa. – Kraków, 1999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uzeum Narodowe (Kraków)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historycz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uzealnictwo - Polska - czasopis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raków (woj. małopolskie) -  muzealnictwo -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133720"/>
            <a:ext cx="9144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ustria w Słowie i Ilustracji = Polen in Wort und Bild. - [Wiedeń :  s.n.]. - Opis na podstawie: 1965, Nr.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społeczno-kulturalne austriac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społeczno-kulturaln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ustria - a Polska -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ska  - a Austria – czasopisma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95280"/>
            <a:ext cx="914400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iW Wiem i Wybieram : poradnik konsumenta / [Fundacja "Dom Dostępny" ; red. nacz. Beata Czuma-Banecka]. – Warszawa, 1998-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poradnikowe pol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onsumenci (ekon.) –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iuletyn Federacji Konsumentów. – Warszawa, 1983-199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ederacja Konsumentów –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fachowe pols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onsumenci (ekon.) – ochrona - czasop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łos Wsi : wychodzi w każdą niedzielę / [red. odpowiedzialny Mieczysław Korczyński]. -  Radom, 1933-193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ludowe polskie - 1918-1939 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hłopskie życie Gospodarcze : pismo zawodowe i społeczne : Łódź, Poznań / [red. odpowiedzialny Stefan Ignar]. -  Łódź, 1935-194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zasopisma ludowe polskie - 1918-1939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W</dc:creator>
  <dc:description/>
  <dc:language>en-US</dc:language>
  <cp:lastModifiedBy>a.stolarczyk</cp:lastModifiedBy>
  <dcterms:modified xsi:type="dcterms:W3CDTF">2008-06-13T12:43:29Z</dcterms:modified>
  <cp:revision>1</cp:revision>
  <dc:subject/>
  <dc:title>Alina Grochowska  Charakterystyka treściowa wydawnictw ciągłych</dc:title>
</cp:coreProperties>
</file>