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2B9-7B32-4F69-AE5F-2738B794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169-900A-4FBD-95E6-0D9D9CA2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5F3-DABD-4307-A0B1-869DBC70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B09-2AAF-4EE9-9530-CEE95BBA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A93C-52B5-42FA-8DFF-1278454A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E953-2CED-4C3B-BF8D-5E3219AA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0C97-E5C6-4E86-918C-363C72C7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1C2E-39DC-43B4-8A8B-1310F87C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EC3E-F8BB-42FE-BC29-869DFF66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AE0A-0FF1-453D-9DA7-E6C4E52F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D215-F78D-45C7-B8A3-EF8C7A9D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FED-C96F-48AB-AF74-24A69AD7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2402-6834-45EB-9CEF-5FCF2B45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F86E-20C6-43A1-B5E3-657A0FC1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EC8F-342C-4628-9B89-CBB7C478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79BB-5FEA-41C3-9C8D-D534AF54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DDEB-E67D-43A7-9623-B67AC976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27F-51EE-4DCB-B708-16A1450C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8B2-89FC-4C3B-8405-2B7F0DD2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B04-E9A4-43E3-B182-39F9473F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676-00C0-4E9B-9165-E616897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A0F-1334-4963-9E9D-A55B39DA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84C-E837-41B1-8C02-33F3D575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F40-8D20-42A9-872C-6B0D4A2B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1BB4-2BDA-450C-B9E6-72C9DE7D6AD7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FEF3-3027-4BED-A52A-73716B2ECFBB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2057400"/>
            <a:ext cx="7238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owe hasła przedmiotowe z zakresu edukacji i metodyka ich stosowan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resja u dzieci w wieku przedszkolnym / Wojewódzki Ośrodek Doskonalenia Nauczycieli w Skierniewicach ; zespół nauczycieli pod kier. Anny Przybył. - Skierniewice : WODN, 2004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resywnoś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ziecko - psycholog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ychowanie przedszkol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Agresywnoś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Dziecko w wieku przedszkolnym - psycholog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Adaptacja dziecka do środowiska przedszkolnego / Anna Klim-Klimaszewska ; Akademia Podlaska. - Siedlce : Wydawnictwo Akademii Podlaskiej, 2006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Adaptacja społecz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Dziecko - rozwój psychofizycz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Wychowanie przedszkol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Dziecko w wieku przedszkolnym – rozwój psychofizycz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Adaptacja społecz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Pedagogika przedszkol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Pedagogika wczesnoszkol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Pedagogika przedszkolna : metamorfoza statusu i przedmiotu badań / Danuta Waloszek. - Kraków : Wydawnictwo Naukowe Akademii Pedagogicznej, 2006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Wychowanie przedszkol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990033"/>
                </a:solidFill>
                <a:latin typeface="Verdana"/>
              </a:rPr>
              <a:t>Pedagogika przedszkol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Angielski w domu : łatwa nauka angielskiego dla twojego dziecka : przewodnik dla rodziców i nauczycieli / autorstwa Claire Selby ; [il. Bogdan! Polch]. - Warszawa : "Open Minds Creativity", cop.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Język angielski – nauczanie - przedszko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Wychowanie przedszkol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Edukacja elementarna  szansą nowej jakości wychowania / pod red. Andrzeja Cichockiego. – Białystok: Trans Humana,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Dziecko – rozwój psychofizycz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auczanie początkowe – Polska – od 1989 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Wychowanie przedszkolne – Polska – od 1989 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Dziecko – rozwój psychofizycz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Pedagogika przedszkolna – Polska – od 1989 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Pedagogika wczesnoszkolna – Polska – od 1989 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Edukacja teatral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Edukacja filmow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990033"/>
                </a:solidFill>
                <a:uFillTx/>
                <a:latin typeface="Verdana"/>
              </a:rPr>
              <a:t>Książka dla przedszkola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TS Wydawnictwa dla dzieci i    młodzież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TK Wychowanie przedszkol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Edukacja teatralna w szkole średniej : założenia, metody, propozycje : książka pomocnicza dla nauczycieli / Jan Andrzej Fręś ; Centrum Doskonalenia Nauczycieli im. W. Spasowskiego w Warszawie. Oddział w Katowicach. - Katowice : CDN. O, 199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Teatr – historia – nauczanie - szkoły średn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Teatr – popularyzacja - Pols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Edukacja teatralna – szkoły średn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Teatr – popularyzacja - Pols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Edukacja filmowa w szkole / Ewa Szczepańska. – Poznań : -"eMPi²2"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Film – historia - nauczan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Edukacja filmow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Określniki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990033"/>
                </a:solidFill>
                <a:latin typeface="Verdana"/>
              </a:rPr>
              <a:t>poziom podstawow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990033"/>
                </a:solidFill>
                <a:latin typeface="Verdana"/>
              </a:rPr>
              <a:t>poziom średniozaawansowa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990033"/>
                </a:solidFill>
                <a:latin typeface="Verdana"/>
              </a:rPr>
              <a:t>poziom zaawansowa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Trening Zastępowania Agresj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Oszustwo szkol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Uczniowie klas początkowy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Edukacja do bezpieczeństw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Piszę i koloruję / [oprac. Katarzyna Kotarba]. - [S.l.] : Firma Wydawnicza DELTA,|ccop. 2007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Gry edukacyjne - przedszkol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Język polski – pisownia - wydawnictwa dla dzie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Język polski – pisownia – wydawnictwa dla dzieci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Książka dla przedszkola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Pojazdy, drogi, podróże : ćwiczenia dla pięciolatka / [aut. Ewa Ćwiek-Wiśniewska ; oprac. graf. Beata Batorska]. - Warszawa : Akademia Przedszkolaka, cop. 2001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Gry edukacyjne - przedszko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Książka do kolorowan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Pojazdy - wydawnictwa dla dziec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Wychowanie przedszkol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Książka dla przedszkola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Pojazdy – wydawnictwa dla dzie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Co jedzą zwierzęta? : 3-4 lata. Kolekcja Pierwsze krok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Warszawa : Grafag - Agencja Wydawnicza, cop. 2007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Dla dzieci 3-4 l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Gry edukacyj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Zwierzęta - wydawnictwa dla dzie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Książka dla przedszkola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Verdana"/>
              </a:rPr>
              <a:t>Zwierzęta – wydawnictwa dla dzie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Dziecko w wieku przedszkolny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2:22:49Z</dcterms:created>
  <dc:creator>a.borowska</dc:creator>
  <dc:description/>
  <dc:language>en-US</dc:language>
  <cp:lastModifiedBy>a.stolarczyk</cp:lastModifiedBy>
  <dcterms:modified xsi:type="dcterms:W3CDTF">2008-06-16T12:34:28Z</dcterms:modified>
  <cp:revision>14</cp:revision>
  <dc:subject/>
  <dc:title>Nowe hasła przedmiotowe z zakresu edukacji i metodyka ich stosowania</dc:title>
</cp:coreProperties>
</file>