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07E7-0B07-4BFE-8822-D2B61EDFB4D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E878-6530-4AD7-8FFE-E87C00AF398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7816-9F56-4FF6-AE51-260549B3A6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265B-524E-4773-9CDF-65863E3DE2F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4F81-EBBF-4537-AFA3-370340354B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C016-ACFD-4E19-BF95-B6880348B1C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13C3-F5F0-44E8-8110-4132C2080C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8D8-10ED-4E75-B2AD-4FA29EB3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7B7-7238-48C9-9F33-2D6CED9E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7AC-F5A8-4307-BAC5-EC7C3665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4BC-9BCA-435A-AADF-0CA50B70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CC0-F345-4D94-8777-F600C733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924-4D31-43E6-835C-4E038B93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17A-0DA6-44AF-BD82-AFB270D1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A32-1176-4D00-A47F-92929959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122-5A20-4865-AA0D-E9DFB7B0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83F-B89C-47DD-9E02-D233C1D0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BC4-5A2F-4CAE-8CF4-43B2DB2A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DAB-798D-48B8-8E3F-0D010E1C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D79E-D635-450A-8F66-E1D58ADCA7E8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4705-510E-4F3A-8453-777C744289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3f"/>
            </a:gs>
            <a:gs pos="50000">
              <a:srgbClr val="fee595"/>
            </a:gs>
            <a:gs pos="100000">
              <a:srgbClr val="ffd13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ogólnopolskie warsztaty JHP B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4 czerwca 2008 r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racowanie przedmiotowe dokumentów z zakresu wychowania fizyczneg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kultury fizycz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92e8bd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125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 sporcie i kulturze fizycznej, poezji i medycynie, czyli o etosie ciała ludzkiego / Ireneusz Bittner, Adam Bryk. – Łódź, 20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ało ludzkie w filozof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ało ludzkie w literaturze – Polska – 16-20 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literatura pols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ezja polska – tematyka – 16-20 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t – literatura pols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t i kultura fizyczna w świetle wybranych koncepcji filozoficznych / Stanisław Rudziński. – Wrocław, 199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filozofia – histo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t – filozofia – histo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0D90-5797-4C40-B51A-A5C8A4BD9B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57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MAT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ultura fizy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92e8bd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lament polski wobec problemów kultury fizycznej 1944-1980 / Leonard Szymański. – Warszawa, 19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jm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kultura fizycz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1944-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polityka – Polska – 1944-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la środków masowego przekazu w wychowaniu do rekreacji / red. nauk. Teresa Wolańska. – Warszawa, 198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popularyzacja – met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poczynek – popularyzacja – met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Środki masowego przekazu – a kultura fizycz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urystyka – popularyzacja – met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23B6-681F-4126-B98E-7D3F1620BE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57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MAT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ultura fizy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92e8bd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tatut "Warszawskiego Towarzystwa Miłośników Rozwoju Fizycznego". – Warszawa, 19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arszawskie Towarzystwo Miłośników Rozwoju Fizycznego – statuty i regulami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– organizacje – Polska – 1914-1918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arszawa –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– organizacje – 1914-1918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"Kultura Fizyczna" 1994-2000 : bibliografia / [oprac. Tadeusz M. Korybut]. – Warszawa,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ultura Fizyczna (czasop.) – bibliografia zawart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zasopisma sportowe polskie – bibliografia zawart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– bibliografia zawartości czasop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port – bibliografia zawartości czasop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F924-6BAF-4BE6-B821-388E25AC46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2800"/>
            <a:ext cx="8229600" cy="823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MAT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ultura fizyczna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KREŚLNIK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ultura fizy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92e8bd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tart : dwutygodnik ilustrowany poświęcony wych. fiz. kob.,  sportom, hygienie / [red. K. Muszałówna]. – Warszawa 1927-19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zasopisma kobiece polskie – 1918-193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zasopisma sportowe polskie – 1918-193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obieta –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– czasopis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uch przedłuża młodość : korzyści z aktywnego trybu życia w starszym wieku / Adam Rosławski. – Warszawa,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Ludzie starzy – higi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Ludzie starzy –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3686-C704-4BB7-AA72-0EAB45FEEC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57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KREŚLNIK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ultura fizy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92e8bd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412640"/>
            <a:ext cx="82296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tości kultury fizycznej w środowisku wojskowym / Marian Marcinkowski. – Poznań,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jsko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Pols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ultura fizyczna w wiejskim stylu życia / Piotr Nowak. - Ostrowiec Świętokrzyski, 20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eś – jakość życia – socjologia – Polska – od 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eś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socjologia – Polska – od 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D0B8-DAD3-47EA-8486-96FA6A8829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57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KREŚLNIK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ultura fizy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3f"/>
            </a:gs>
            <a:gs pos="50000">
              <a:srgbClr val="fee595"/>
            </a:gs>
            <a:gs pos="100000">
              <a:srgbClr val="ffd13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ymbol zastępczy zawartości 2" descr=""/>
          <p:cNvPicPr/>
          <p:nvPr/>
        </p:nvPicPr>
        <p:blipFill>
          <a:blip r:embed="rId1"/>
          <a:stretch/>
        </p:blipFill>
        <p:spPr>
          <a:xfrm>
            <a:off x="268200" y="1066680"/>
            <a:ext cx="8736120" cy="5065920"/>
          </a:xfrm>
          <a:prstGeom prst="rect">
            <a:avLst/>
          </a:prstGeom>
          <a:ln w="0">
            <a:noFill/>
          </a:ln>
        </p:spPr>
      </p:pic>
      <p:sp>
        <p:nvSpPr>
          <p:cNvPr id="10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A9A8-A408-4DD9-9C0C-7FA1C3ED7A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3f"/>
            </a:gs>
            <a:gs pos="50000">
              <a:srgbClr val="fee595"/>
            </a:gs>
            <a:gs pos="100000">
              <a:srgbClr val="ffd13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6840" y="642600"/>
            <a:ext cx="40402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tudenci – kultura fizycz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z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olnictwo wyższe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ultura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izycz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K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ychowanie fizyczne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zkoły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yżs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Uczniowie szkół podstawowych – kultura fizycz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zkolnictwo podstawowe –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ultura fizycz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K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ychowanie fizyczne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zkoł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dstawow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4720" y="571320"/>
            <a:ext cx="404172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Wychowanie fizyczne – szkoły wyższ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zkolnictwo wyższe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ultur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izycz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K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udenci – kultura fizycz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Wychowanie fizyczne – szkoły podstawow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zkolnictwo podstawowe –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ultura fizycz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K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Uczniowie szkół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odstawowych – kultur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izycz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85FF-D78F-4DA1-88A8-2420DE9052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978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Biospołeczne uwarunkowania zainteresowań i aktywności ruchowo- rekreacyjnej młodzieży zawodowych szkół górniczych / Krystian Karkosz. – Katowice, 19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órnictwo – szkolnictwo – Polska – 1944-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czniowie szkół zawodowych – antropologia – Pols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Uczniowie szkół zawodowych – kultura fizycz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olska – 1944-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czniowie szkół zawodowych – socjologia – Polska – 1944-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Kultura fizyczna studentów w okresie transformacji szkolnictwa wyższego w Polsce / red. naukowa Zbigniew Dziubiński i Bogusław Gorski. – Warszawa, 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Studenci – kultura fizycz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olska – od 1989 r. – materiały konferencyj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55280" y="188640"/>
            <a:ext cx="7488360" cy="1152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SŁO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Uczniowi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poziom szkoły]/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udenci – kultura fizy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900-FC70-4F3D-9730-0E1274AF33A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3f"/>
            </a:gs>
            <a:gs pos="50000">
              <a:srgbClr val="fee595"/>
            </a:gs>
            <a:gs pos="100000">
              <a:srgbClr val="ffd13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76360" y="836280"/>
            <a:ext cx="61912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port – bezpieczeństw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ultura fizyczna – bezpieczeńst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ychowani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izyczn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– bezpieczeńst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K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ypadki w sporc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port – encykloped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ultura fizyczna – encyklop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ychowanie fizyczne – encyklop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port – terminolog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ultura fizyczna – terminolog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ychowanie fizyczne – terminolog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ymbol zastępczy numeru slajd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6465-E7E7-4DAA-82B5-3B2CA6ABBC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3f"/>
            </a:gs>
            <a:gs pos="50000">
              <a:srgbClr val="fee595"/>
            </a:gs>
            <a:gs pos="100000">
              <a:srgbClr val="ffd13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214720" y="357120"/>
            <a:ext cx="53575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Sport – fizjolo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Kultura fizyczna – fizjolog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Sportowcy – fizjolog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Trening sportowy – fizjolog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Sport – antropolo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Kultura fizyczna – fizjolog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Sportowcy – fizjolog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Trening sportowy – fizjolog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Obiekty i urządzenia sportowe</a:t>
            </a:r>
            <a:br>
              <a:rPr sz="2200"/>
            </a:b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Kultura fizyczna – urządzenia</a:t>
            </a:r>
            <a:br>
              <a:rPr sz="1900"/>
            </a:b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Obiekty sportowe</a:t>
            </a:r>
            <a:br>
              <a:rPr sz="1900"/>
            </a:b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Sport – budownictwo</a:t>
            </a:r>
            <a:br>
              <a:rPr sz="1900"/>
            </a:b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Sport – urządzenia</a:t>
            </a:r>
            <a:br>
              <a:rPr sz="1900"/>
            </a:b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Urządzenia sportowe</a:t>
            </a:r>
            <a:br>
              <a:rPr sz="1900"/>
            </a:b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900" spc="-1" strike="noStrike">
                <a:solidFill>
                  <a:srgbClr val="000000"/>
                </a:solidFill>
                <a:latin typeface="Calibri"/>
              </a:rPr>
              <a:t>Wychowanie fizyczne – urządzen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ymbol zastępczy numeru slajdu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7C4E-96B5-4E63-BB67-6A673A364E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3f"/>
            </a:gs>
            <a:gs pos="50000">
              <a:srgbClr val="fee595"/>
            </a:gs>
            <a:gs pos="100000">
              <a:srgbClr val="ffd13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FDE5-DFD3-45AD-895D-D4629F3977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1081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osowanie tematu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ychowanie fizyczne i kultura fizyczn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zed wprowadzeniem zmian w Słowniku JHP B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Efektywność lekcji wychowania fizycznego: materiały XV konferencji naukowo-metodycznej dla nauczycieli wf, Poznań, dnia 22 kwietnia 1978 r. / Akademia Wychowania Fizycznego w Poznaniu. – Poznań, 197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Wychowanie fizyczne i kultura fizycz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efektywność – materiały konferencyj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Zarys organizacji kultury fizycznej w wybranych krajach Europy / pod red. nauk. Zygmunta Jaworskiego. – Warszawa, 198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Wychowanie fizyczne i kultura fizycz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organizacja – Europ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3f"/>
            </a:gs>
            <a:gs pos="50000">
              <a:srgbClr val="fee595"/>
            </a:gs>
            <a:gs pos="100000">
              <a:srgbClr val="ffd13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5640" y="1428480"/>
            <a:ext cx="41432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ziecko – 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port szkol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K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zkolnictwo sportow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3714480"/>
            <a:ext cx="54547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łodzież szkolna – 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port szkol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K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zkolnictwo sportow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A166-D16B-44C5-ABB1-234B3D4A60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1B6F-8D20-488E-A193-16D74E8F6D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7750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port w rozwoju i wychowaniu dzieci i młodzieży : (wychowanie, trening, selekcja) / Zdzisława Wyżnikiewicz-Kopp. - Szczecin, 1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ziecko – 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łodzież szkolna – 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port – a wychowa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łody tenisista : jak uniknąć urazów / Józef Czopik. – Warszawa, cop. 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ziecko – spo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– fizjolog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rząd ruchu – fizjolog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rząd ruchu – urazy – lecze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enis – nauczanie i tre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HASŁA </a:t>
            </a: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Dziecko – sport, Młodzież szkolna – s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980640"/>
            <a:ext cx="82296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ybrane aspekty kwalifikacji dzieci i młodzieży do sportu i treningu / Henryk Sozański. – Warszawa,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ziecko – s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nauczanie i tre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ziecko – rozwój psychofizycz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łodzież szkolna – s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nauczanie i tre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łodzież szkolna – rozwój psychofizycz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dol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ownik WOPR nauczycielem pływania / Dariusz Władysław Skalski. – Skarszewy ; Gdańsk, 20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ziecko – s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nauczanie i tre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łodzież szkolna – s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nauczanie i tre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ływanie – nauczanie i tre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A371-9CFD-4A59-BF49-8B16ABF977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57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HASŁA </a:t>
            </a: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Dziecko – sport, Młodzież szkolna – s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125360"/>
            <a:ext cx="822960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ziałalność uczniowskich klubów sportowych / Rajmund Tomik. – Katowice,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uby sportowe – Polska – od 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łodzież szkolna – s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organizacje – Polska – od 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zy : Turniej Sportowy Szkół Średnich Euroregionu Karpackiego, 22-25 października 2003. – Rzeszów, 20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urniej Sportowy Szkół Średnich Euroregionu Karpackiego (2003 ; Rzeszó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czniowie szkół średnich – s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zawody – Polska – od 2001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region Karpaty – sport – zaw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zeszów (woj. podkarpackie) – sport – zawody – od 2001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8C0D-361B-4BE7-BABD-3CED962377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57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HASŁA </a:t>
            </a: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Dziecko – sport, Młodzież szkolna – s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3f"/>
            </a:gs>
            <a:gs pos="50000">
              <a:srgbClr val="fee595"/>
            </a:gs>
            <a:gs pos="100000">
              <a:srgbClr val="ffd13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214360" y="1357200"/>
            <a:ext cx="53816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zkolnictwo sport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Klasy sportow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port – szkolnictw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zkolnictwo – s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zkoły mistrzostwa sportow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zkolnictw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K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ziecko – s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łodzież szkolna – s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8FB0-1623-41EB-8D23-FFED954B5A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dcdc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05264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0 lat Szkoły Sportowej im. Janusza Kusocińskiego w Dzierżoniowie  / [red. Krystyna Kałużna et al. – Dzierżoniów, 1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zkoła Sportowa im. Janusza Kusocińskiego (Dzierżonió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zkolnictwo sportow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– Pols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zkolnictwo podstawowe – Polska – od 1944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zierżoniów (woj. dolnośląskie) – szkolnictwo i oświata – od 1944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lasa sportowa : wyniki badań : gimnastyka : praca zbiorowa / pod red. H. Młokosiewicz. – Poznań, 197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ziecko – rozwój fizyczny – bada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Gimnastyka – nauczanie i trening – bada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zkolnictwo podstawowe – Polska – 1956-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zkolnictwo sportow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– Polska – 1956-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56F4-D92D-454F-A887-14A8741C18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5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MAT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zkolnictwo sport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dcdc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26792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port, szkoła sportowa - oczekiwania i rzeczywistość : (opinie uczniów z wybranych klas sportowych) / Roman Kaniuk. – Warszawa, 198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łodzież szkolna – sport – socjologia – Polska – 1944-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zkolnictwo sportow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– socjologia – Polska – 1944-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zkolenie uzdolnionej sportowo młodzieży w polskim systemie edukacyjnym / pod red. Dariusza Śledziewskiego i Adama Karwackiego. – Warszawa, 20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łodzież szkolna – sport – nauczanie i trening – Polska – od 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zkolnictwo sportow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– Polska – od 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1700-5949-4FAF-B123-DB0EE887FB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5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MAT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zkolnictwo sport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3f"/>
            </a:gs>
            <a:gs pos="50000">
              <a:srgbClr val="fee595"/>
            </a:gs>
            <a:gs pos="100000">
              <a:srgbClr val="ffd13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435744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ria Gąs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cownia JHP B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.gaska@bn.org.p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F1BC-C6DD-47EB-BE2D-41516F020E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3f"/>
            </a:gs>
            <a:gs pos="50000">
              <a:srgbClr val="fee595"/>
            </a:gs>
            <a:gs pos="100000">
              <a:srgbClr val="ffd13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213840"/>
            <a:ext cx="40402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ychowanie fizycz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Edukacja fizycz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port – nauczan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W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S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Wychowan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K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Kultura fizycz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Nauczyciele wychowania fizyczn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Obiekty i urządzenia sporto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3280" y="285840"/>
            <a:ext cx="4042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Kultura fizy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t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dpowiednie tematy z określnikiem 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- kultura fizyczn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np.: 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Wojsko – kultura fizyczna, Śląsk, Dolny – kultura fizyczna, Polacy za granicą – kultura fizyczna, Młodzież – kultura fizycz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Kultu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K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Gimnasty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Gry i zabawy rucho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Higie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Obiekty i urządzenia sporto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Odpoczyn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Promocja zdrow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Ścieżka zdrow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Trenerzy i instruktorzy sportow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Turysty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Wychowanie fizycz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ymbol zastępczy numeru slajdu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1A4B-22DC-4D5A-A80C-87003A8F3B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8" name="Prostokąt 19"/>
          <p:cNvSpPr/>
          <p:nvPr/>
        </p:nvSpPr>
        <p:spPr>
          <a:xfrm flipV="1" rot="10800000">
            <a:off x="2071440" y="5270040"/>
            <a:ext cx="4714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kreślnik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ultura fizyczna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osuje się po nazwach geograficznych z wyjątkiem nazw państw i regionów świata, po tematach ogólnych i po tematach typu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Nazwa narodowości za granicą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0dffe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91520" cy="559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etodyka wychowania fizycznego i zdrowotnego : podręcznik dla nauczycieli wychowania fizycznego i studentów studiów pedagogicznych / Janusz Bielski. – Kraków, 2005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Edukacja zdrowotna – metody – podręcznik</a:t>
            </a:r>
            <a:br>
              <a:rPr sz="18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chowanie fizycz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– metody – podręcznik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nauczania wychowania fizycznego : dla klas I-III gimnazjum / Kazimierz Ostrowski. – Poznań, 2000</a:t>
            </a:r>
            <a:br>
              <a:rPr sz="1800"/>
            </a:br>
            <a:br>
              <a:rPr sz="18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chowanie fizycz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– gimnazja – progra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Kultura fizyczna w kl[asach] I-III : (poradnik metodyczny) / oprac. Grażyna Jargiło, Stanisława Jesionek, Pelagia Sokalska. - Jelenia Góra, 1988</a:t>
            </a:r>
            <a:br>
              <a:rPr sz="1800"/>
            </a:b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Wychowanie fizycz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metody – nauczanie początkow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ymbol zastępczy numeru slajdu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6EA4-FFF8-4A55-94F5-F814B031E1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1" name="Prostokąt 12"/>
          <p:cNvSpPr/>
          <p:nvPr/>
        </p:nvSpPr>
        <p:spPr>
          <a:xfrm flipV="1" rot="10800000">
            <a:off x="569520" y="5194080"/>
            <a:ext cx="73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2" name="Prostokąt 15"/>
          <p:cNvSpPr/>
          <p:nvPr/>
        </p:nvSpPr>
        <p:spPr>
          <a:xfrm>
            <a:off x="571680" y="285840"/>
            <a:ext cx="8001000" cy="459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MAT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ychowanie fizyczne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0dffe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2143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ymbol zastępczy numeru slajdu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D769-9AEE-4986-BC5E-BCFB57A1FD3B}" type="slidenum">
              <a:rPr b="0" lang="pl-PL" sz="18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5" name="Prostokąt 10"/>
          <p:cNvSpPr/>
          <p:nvPr/>
        </p:nvSpPr>
        <p:spPr>
          <a:xfrm flipV="1" rot="10800000">
            <a:off x="500040" y="3021120"/>
            <a:ext cx="807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6" name="Prostokąt 12"/>
          <p:cNvSpPr/>
          <p:nvPr/>
        </p:nvSpPr>
        <p:spPr>
          <a:xfrm flipV="1" rot="10800000">
            <a:off x="571680" y="3861360"/>
            <a:ext cx="6696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7" name="Prostokąt 9"/>
          <p:cNvSpPr/>
          <p:nvPr/>
        </p:nvSpPr>
        <p:spPr>
          <a:xfrm flipV="1" rot="10800000">
            <a:off x="495000" y="1699920"/>
            <a:ext cx="772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zwój myśli o wychowaniu fizycznym i jego metodach / Stanisław Strzyżewski. – Poznań, 1987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chowanie fizycz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historia – podręcznik akademicki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chowanie fizycz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eoria – podręcznik akademicki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zieje wychowania fizycznego i sportu od końca XVIII wieku do roku 1918 / Ryszard Wroczyński. – Wrocław, 1971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t – Polska – 18-20 w.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chowanie fizycz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historia – Polska – 18-20 w.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8" name="Prostokąt 15"/>
          <p:cNvSpPr/>
          <p:nvPr/>
        </p:nvSpPr>
        <p:spPr>
          <a:xfrm>
            <a:off x="571680" y="285840"/>
            <a:ext cx="7786440" cy="459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MAT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ychowanie fizyczne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0dffe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ymbol zastępczy numeru slajdu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8E9D-B579-4132-AEFE-569F29C74192}" type="slidenum">
              <a:rPr b="0" lang="pl-PL" sz="18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0" name="Prostokąt 10"/>
          <p:cNvSpPr/>
          <p:nvPr/>
        </p:nvSpPr>
        <p:spPr>
          <a:xfrm flipV="1" rot="10800000">
            <a:off x="609120" y="1196640"/>
            <a:ext cx="8006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kademia Wychowania Fizycznego Józefa Piłsudskiego w Warszawie / [red. wyd. Józef Wysocki]. – Warszawa, 2006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ademia Wychowania Fizycznego Józefa Piłsudskiego (Warszawa) – informator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chowanie fizycz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zkolnictwo wyższe – Polska – od 2001 r. – informator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szawa – szkolnictwo wyższe – od 2001 r. – informator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pływ modernizacji szkolnego systemu wychowania fizycznego na efektywność zajęć oraz postawy uczniów wobec kultury fizycznej / Eligiusz Madejski. – Kraków, 2000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speryment – stosowanie – nauczanie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łodzież szkolna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ultura fizycz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ocjologia – Polska – od 1989 r.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chowanie fizycz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fektywność – Polska – od 1989 r.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1" name="Prostokąt 12"/>
          <p:cNvSpPr/>
          <p:nvPr/>
        </p:nvSpPr>
        <p:spPr>
          <a:xfrm flipV="1" rot="10800000">
            <a:off x="569880" y="4737600"/>
            <a:ext cx="77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2" name="Prostokąt 9"/>
          <p:cNvSpPr/>
          <p:nvPr/>
        </p:nvSpPr>
        <p:spPr>
          <a:xfrm flipV="1" rot="10800000">
            <a:off x="500040" y="4847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3" name="Prostokąt 14"/>
          <p:cNvSpPr/>
          <p:nvPr/>
        </p:nvSpPr>
        <p:spPr>
          <a:xfrm>
            <a:off x="500040" y="312840"/>
            <a:ext cx="7929720" cy="8254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MAT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ychowanie fizyczne/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KREŚLNIK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ultura fizyczna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0dffe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ultura fizyczna w szkołach i zakładach dla upośledzonych umysłowo : poradnik metodyczny / Jan Dziedzic, Wiesława Dłużewska, Bernard Wieczorek. – Warszawa, 1978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ziecko niepełnosprawne umysłowo –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br>
              <a:rPr sz="18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chowanie fizycz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– metody – szkoły specjaln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Kultura fizyczna w szkołach i zakładach dla głuchych i niedosłyszących / Jan Dziedzic, Lidia Ritzke. – Warszawa, 1979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ecko głuche –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kultura fizyczn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ecko niedosłyszące –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kultura fizyczna</a:t>
            </a:r>
            <a:br>
              <a:rPr sz="18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Wychowanie fizycz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metody – szkoły specjalne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ymbol zastępczy numeru slajdu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99C0-A17D-47AF-897A-4FDE49FFBED0}" type="slidenum">
              <a:rPr b="0" lang="pl-PL" sz="18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6" name="Prostokąt 9"/>
          <p:cNvSpPr/>
          <p:nvPr/>
        </p:nvSpPr>
        <p:spPr>
          <a:xfrm flipV="1" rot="10800000">
            <a:off x="500040" y="4847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7" name="Prostokąt 14"/>
          <p:cNvSpPr/>
          <p:nvPr/>
        </p:nvSpPr>
        <p:spPr>
          <a:xfrm>
            <a:off x="571680" y="285840"/>
            <a:ext cx="7715160" cy="8254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MAT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ychowanie fizyczne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KREŚLNIK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ultura fizyczna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0dffe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538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ychowanie fizyczne dziewcząt w świetle ich oczekiwań i potrzeb / Ryszard Jezierski. –  Wrocław, 1994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ziewczęta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psychologia – Polsk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ziewczęta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socjologia – Polska – 1944-1989 r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chowanie fizycz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Polska – 1944-1989 r. 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ultura fizyczna w wyższych seminariach duchownych Kościoła katolickiego w Polsce / Zbigniew Dziubiński. – Częstochowa, 2004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erycy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Polska – od 1989 r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chowanie fizycz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szkoły wyższe – Polska – od 19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E5D1-DE05-4E2B-B4EC-5E1185138675}" type="slidenum">
              <a:rPr b="0" lang="pl-PL" sz="18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0" name="Prostokąt 10"/>
          <p:cNvSpPr/>
          <p:nvPr/>
        </p:nvSpPr>
        <p:spPr>
          <a:xfrm flipV="1" rot="10800000">
            <a:off x="500040" y="4419720"/>
            <a:ext cx="807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1" name="Prostokąt 12"/>
          <p:cNvSpPr/>
          <p:nvPr/>
        </p:nvSpPr>
        <p:spPr>
          <a:xfrm flipV="1" rot="10800000">
            <a:off x="500040" y="524556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2" name="Prostokąt 9"/>
          <p:cNvSpPr/>
          <p:nvPr/>
        </p:nvSpPr>
        <p:spPr>
          <a:xfrm flipV="1" rot="10800000">
            <a:off x="500040" y="4847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3" name="Prostokąt 13"/>
          <p:cNvSpPr/>
          <p:nvPr/>
        </p:nvSpPr>
        <p:spPr>
          <a:xfrm>
            <a:off x="500040" y="285840"/>
            <a:ext cx="7929720" cy="8254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MAT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ychowanie fizyczne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KREŚLNIK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ultura fizyczna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92e8bd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341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Źródła do dziejów kultury fizycznej. [Cz.4], Rozwój kultury fizycznej w okresie Odrodzenia i Oświecenia / Wanda Ferens, Ryszard Wroczyński. – Wrocław, 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14-18 w. – źródł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zeobrażenia kultury fizycznej w krajach Europy Środkowej i Wschodniej / pod red. Krzysztofa W. Jankowskiego i Zbigniewa Krawczyka. – Warszawa, 199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ultura fizycz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Europa Środkowo-Wschodnia – od 1989 r. – materiały konferencyj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C963-94D4-4A1E-9006-E77E8B78C1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1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MAT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ultura fizy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10:21:01Z</dcterms:created>
  <dc:creator>Maria Gąska</dc:creator>
  <dc:description/>
  <dc:language>en-US</dc:language>
  <cp:lastModifiedBy>a.stolarczyk</cp:lastModifiedBy>
  <dcterms:modified xsi:type="dcterms:W3CDTF">2008-06-13T13:04:56Z</dcterms:modified>
  <cp:revision>326</cp:revision>
  <dc:subject/>
  <dc:title>Slajd 1</dc:title>
</cp:coreProperties>
</file>