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BB8-4591-4041-93F0-F6DCBA3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67C-36CB-4778-B6BB-7AC5258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57E-4C0F-44A7-86F0-E033DF07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7DA-0114-4C5B-B172-1C30CFA4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633-C36C-4612-8717-17C37688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64A-9D14-47D7-A9BE-3253C42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0D9-DF7D-4A5C-BD51-AC6515E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2130-B472-4F2F-ABA6-668FB77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0503-6BE0-4FE0-B22D-06BBBD41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18C-9AD0-45B1-9668-3FBF5AD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3BA-3E04-42DD-9B9F-59A4C3AF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41A-46F6-4F38-8652-A29F740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347-DA90-4FBE-9184-7AA77E4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2D62-2A56-4D09-A084-DFBF6FB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5835-9FBA-4023-8E24-38B2BD3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051-985E-4E3A-91F8-63680ACC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FEA3-1D95-44F6-8A57-36C2DD1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B8A-521C-4C0B-93FD-633C7BD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417-2217-47AD-900C-4D053BDA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D05-A4A2-4A41-8E2D-49DF321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17D-2C94-4ABC-B448-6C94908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455-254B-4999-938E-8AE79E4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41A-223F-47EB-86F8-1FE66A0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7AB-11E2-489C-8FB7-0FE67A7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7F76-E237-43C0-8632-0BABD4092A2B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553-7A84-4B8F-A41E-67F14A7529CB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ęzyk Haseł Przedmiotowych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blioteki Narodowej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 historia, perspektyw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5734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nda Klencz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iblioteka Narodow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rtoteka wzorcowa JHP B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 2004 r. utworzono, na podstawie indeksu przedmiotowego katalogu BN, kartotekę wzorcową haseł rozwiniętych – ok. 320 000 rekordów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. 05. 2008 – ok. 490 000 rekordów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ziennie – średnio 250 nowych haseł rozwinięty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asła dostępne w katalogu NUKA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e nad JHP BN 1996-2007 r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spółpraca trzech zakładów Biblioteki Narodowej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Zakładu Opracowania Rzeczowego (d. Katalogów Rzeczowych) – Anna Stolarczy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Zakładu Przewodnika Bibliograficznego – Joanna Kędziels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środka Normalizacji Bibliograficznej – Wanda Klenczon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raz – od 2001 r. - Zespołu ds. Rozwoju JHP B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e nad JHP BN od września 2007 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acownia JHP BN w Instytucie Bibliograficzny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na Stolarczyk – kierowni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ria Gąs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oanna Kędziels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łgorzata Witkows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zy współpracy Zespołu ds. Rozwoju JHP B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gólnopolskie warsztaty JHP B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 raz pierwszy zorganizowane przez przewodniczącego Komisji Opracowania Rzeczowego Zbiorów przy ZG SBP, Piotra Bierczyńskiego, w 1999 r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 latach 1999-2007 w warsztatach wzięło udział ponad tysiąc osób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racowanie przedmiotowe w B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opniowo obejmowano opracowaniem przedmiotowym w JHP BN kolejne grupy dokumentów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książk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okumenty życia społecznego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rtykuły z czasopis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zasopism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okumenty kartograficz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uki muzycz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okumenty elektronicz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okumenty dźwiękowe i audiowizual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okumenty ikonograficz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are druk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ękopis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racowanie przedmiotowe w B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pracowanie rzeczowe zbiorów specjalnych wymaga nowego podejścia do słownictwa i metodyk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nieczność opracowania komplementarnego zasobu terminów wyrażających rodzaj, formę, gatunek (stosowanych w polu 655 MARC21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nieczność opracowania zasad metodycznych odpowiadających charakterowi specyficznych dokumentów i możliwościom ich opracowania i wyszukiwania w bazie dany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racowanie przedmiotowe w B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aza katalogowa BN zawiera ok.  800 000 dokumentów opracowanych przedmiotow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esięcznie w BN opracowuje się przedmiotowo ok.   3 000 dokumentów różnych typów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pisy w bazie są stale meliorowane w związku z nowymi i zmienionymi hasłami oraz zmianami w metodyc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HP BN w NUK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VI 2005-VII 2007 BN czynnie współpracowała z katalogiem centralnym NUKA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łą kartotekę wzorcową JHP BN przekazano do NUKAT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raca nad kartoteką wyłącznie w systemie Virtua w bazie NUKA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 BN kopia bazy aktualizowana codzienni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zynnej współpracy zaprzestano 1 sierpnia 2007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kopia kartoteki JHP BN utrzymywana i dostępna w NUKA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aza aktualizowana raz w tygodniu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zkoleni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d 2000 r. ponad 700 godzin szkoleń, wykładów i konsultacji w bibliotekach publicznych i pedagogicznych w całej Pols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ursy JHP BN na poziomie podstawowym i zaawansowanym organizowane przez CEBI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d 2008 prowadzenie kursów organizowanych przez ZEBID przejęła Pracownia JHP B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P BN – pytania o najbliższą przyszłoś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aka jest przyszłość języków informacyjno-wyszukiwawczych w warunkach przyspieszającej zmiany technologicznej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zy wobec przyzwyczajenia użytkowników do strategii używanych w wyszukiwarkach internetowych ma jeszcze sens gramatyka pozycyjna? Co możemy zyskać, a co stracić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Łysakowski (1895-195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oczątki katalogu przedmiotowego w Pols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wórca i popularyzator polskiego katalogu przedmiotowego, autor zasad i metodyk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Katalog przedmiotowy. T. 1 Teori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, Wilno 1928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Katalog przedmiotowy: podręcznik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, Warszawa 194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P BN – pytania o najbliższą przyszłość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zy wobec dostępności stale aktualizowanej pełnej kartoteki wzorcowej JHP BN Słownik drukowany jest jeszcze potrzebny bibliotekarzom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zy kartoteka wzorcowych haseł rozwiniętych jest nam niezbędna? Czy nie wystarczyłoby uproszczenie reguł i spisanie zaleceń metodyczny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HP BN – pytania o najbliższą przyszłoś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Czy nie powinniśmy w większym stopniu wykorzystywać potencjał formatów bibliotecznych i systemów komputerowy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kodowane wartości w MARC21, np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lokalizacja w czasie - pole 045 - Time Period of Content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lokalizacja w przestrzeni – pole 043 - Geographic Area Cod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Arial"/>
              </a:rPr>
              <a:t>sortowanie i limitowanie wyników wyszukiwania</a:t>
            </a: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nkieta – „Stosowanie Języka Haseł Przedmiotowych Biblioteki Narodowej w katalogach bibliotek”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cje od Państwa pozwolą nam dostosować naszą ofertę do potrzeb bibliotek stosujących JHP B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szystkim użytkownikom JHP BN dziękujemy za dotychczasowe zainteresowanie i współpracę przy jego doskonaleniu, za postulaty i krytyczne uwagi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ez Państwa udziału jego rozwój nie byłby możliwy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nda Klencz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acownia JHP B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 Zespół ds. rozwoju JHP B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Łysakowski (1895-195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oczątki katalogu przedmiotowego w Pols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Katalog przedmiotowy wyszczególniają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ematem staje się każdy przedmiot, o ile jest reprezentowany w piśmiennictwie i posiada prawidłową polską nazwę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zedmiot wyrażony jednowyrazową rzeczownikową nazw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kreślniki mają charakter uogólnio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dukcja tematów na rzecz skupień tematyczny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 Kossonoga, Słownik tematów dla bibliografij i katalogów w układzie przedmiotowym, Warszawa 1956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ierwszy publikowany polski słownik języka haseł przedmiotowych o zakresie uniwersalny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dwoływał się do metodyki Łysakowskie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pracowany w Bibliotece Narodowej przez zespół: Władysław Bieńkowski, Maria Dembowska, Halina Hleb-Koszańska, Janina Jantzenowa, Jan Kossonoga, Henryk Sawoniak na podstawie prowadzonej w Instytucie Bibliograficznym kartoteki przedmiotowej egzemplarza obowiązkowego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zawierał ok. 4 500 haseł przyjętych i odrzucony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talog przedmiotowy B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d 1957 roku BN zamieszcza hasła przedmiotowe we wszystkich opisach bibliograficznych rejestrowanych w bieżącej bibliografii narodowej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rzewodniku Bibliograficznym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d 1969 roku katalog przedmiotowy – początkowo tradycyjny, kartkowy, a następnie zautomatyzowany - jest głównym katalogiem rzeczowym B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łownik JHP B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wstał z inicjatywy i dzięki wieloletniej pra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wy Stępniakowej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(Zakład Katalogów Rzeczowych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Janiny Trzcińskiej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(Zakład Przewodnika Bibliograficznego)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ace rozpoczęto w 1982 r., obejmowały m.in.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ryfikację i aktualizację terminologii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nfrontację słownictwa z katalogiem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zbudowę słownictwa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porządkowanie relacj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łownik JHP B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I (1989, stan na 1986) – ok. 5 000 artykułów przedmiotowych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II  (1993) - ok. 11 000 haseł (w tym ok. 2 000 terminów odrzuconych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III (1997) - ok. 14 000 haseł (w tym ok. 3 500 terminów odrzuconych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IV (2001) - ok. 31 000 haseł (w tym ok. 10 000 terminów odrzuconych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V (2005) – ok. 49 000 haseł (w tym ok. 20 000 terminów odrzuconych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ydanie VI – 2009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dstawowe zasad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torki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łownik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podtrzymując podstawową zasadę metodyki Łysakowskiego, tj. zasadę wyszczególniającego formułowania tematów i uogólniającego formułowania określników, określiły zasady doboru i redakcji, które w większości są stosowane do dziś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łownictwo ma charakter uniwersal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lska terminologia pochodzi z wiarygodnych źródeł informacji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ematy jednoznaczne (eliminacja synonimii i rozróżnienie homonimów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artoteka wzorcowa JHP B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łownictwo od początku prowadzone jako kartoteka, początkowo kartkow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łna kontrola tematów rzeczowych, geograficznych oraz określników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zęściowa kontrola tematów osobowych i korporatywny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 1996 r. kartoteka przeniesiona do postaci elektronicznej, w formacie USMARC, następnie MARC2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ęcie pełną kontrolą wszystkich kategorii haseł jednostkowy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8:16:44Z</dcterms:created>
  <dc:creator>Klenczon</dc:creator>
  <dc:description/>
  <dc:language>en-US</dc:language>
  <cp:lastModifiedBy>a.stolarczyk</cp:lastModifiedBy>
  <dcterms:modified xsi:type="dcterms:W3CDTF">2008-06-20T12:47:01Z</dcterms:modified>
  <cp:revision>12</cp:revision>
  <dc:subject/>
  <dc:title>Język Haseł Przedmiotowych  Biblioteki Narodowej  - historia, perspektywy</dc:title>
</cp:coreProperties>
</file>