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92E1-5701-432A-A7C8-D0050BBC6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A9FE-FFB7-49FC-BC28-CF3DB234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7293-337A-4686-AA17-5085D039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E920-2C0E-4767-A859-70BE0D8B3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F1E6-5295-4376-8654-0311B5D9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6CC5-92D3-443F-95E3-18BCBC54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75DB-3250-43D9-B205-715DAD97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54CC-08EA-4DBA-BD58-6E3BB577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626F-C07C-4F21-955B-5908EF34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B9BA-AFAF-4294-9FCC-4593AA8C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2D31-808C-4512-8F51-AA434437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A79E-68F1-4C57-B101-D3763C88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8D10-C185-4A74-9366-20853A8E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AF79-895E-4257-8ECB-ED24B35D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57A2-C47B-4C9D-B181-902E196F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5A4E-D4D7-4A42-AECC-9087A660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484C-96AE-42B2-B81B-B6289980D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8DF2-43F9-410F-9153-896BB166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5DEE-C2C4-4FD7-82CC-57E85D4B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7699-F14E-4B82-9EA4-A5D5CA88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CF72-B6C5-416C-92F0-C703B251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0EE6-DB41-49E3-8990-E7E0A0A9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63AB-0905-41D9-BDD7-49D6FCAA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B452-42B5-4B86-BD01-818F0D41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5444-FA9B-4E79-98A8-AF2242DBB880}" type="slidenum">
              <a:rPr b="0" lang="pl-P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C554-8539-42FA-AC11-64C1AC21532D}" type="slidenum">
              <a:rPr b="0" lang="pl-P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Arial"/>
              </a:rPr>
              <a:t>Zmiany w opracowaniu przedmiotowym dokumentów na temat życia seksualnego 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pl-PL" sz="3200" spc="-1" strike="noStrike">
                <a:solidFill>
                  <a:srgbClr val="ffffcc"/>
                </a:solidFill>
                <a:latin typeface="Arial"/>
              </a:rPr>
              <a:t>                 Małgorzata Witkowska (BN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i="1" lang="pl-PL" sz="2000" spc="-1" strike="noStrike">
                <a:solidFill>
                  <a:srgbClr val="ffffcc"/>
                </a:solidFill>
                <a:latin typeface="Verdana"/>
              </a:rPr>
              <a:t>Seksuologia: przykłady stosowani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i="1" lang="pl-PL" sz="2000" spc="-1" strike="noStrike">
                <a:solidFill>
                  <a:srgbClr val="ffffcc"/>
                </a:solidFill>
                <a:latin typeface="Verdana"/>
              </a:rPr>
              <a:t>1.</a:t>
            </a:r>
            <a:r>
              <a:rPr b="1" i="1" lang="pl-PL" sz="2000" spc="-1" strike="noStrike">
                <a:solidFill>
                  <a:srgbClr val="eaeaea"/>
                </a:solidFill>
                <a:latin typeface="Verdana"/>
              </a:rPr>
              <a:t> Medycyna seksualna / Kazimierz Imieliński. - Warszawa, 1992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                   </a:t>
            </a: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Seksuologi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i="1" lang="pl-PL" sz="2000" spc="-1" strike="noStrike">
                <a:solidFill>
                  <a:srgbClr val="ffffcc"/>
                </a:solidFill>
                <a:latin typeface="Verdana"/>
              </a:rPr>
              <a:t>2.</a:t>
            </a:r>
            <a:r>
              <a:rPr b="1" i="1" lang="pl-PL" sz="2000" spc="-1" strike="noStrike">
                <a:solidFill>
                  <a:srgbClr val="eaeaea"/>
                </a:solidFill>
                <a:latin typeface="Verdana"/>
              </a:rPr>
              <a:t> Aktualne problemy seksuologii : (materiały konferencji naukowej, Białystok 17 kwietnia 1998) / pod red. Janusza Darewicza i Barbary Carewicz. - Białystok, 1998</a:t>
            </a:r>
            <a:br>
              <a:rPr sz="2000"/>
            </a:b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              </a:t>
            </a: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Seksuologia - materiały konferencyjn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i="1" lang="pl-PL" sz="2000" spc="-1" strike="noStrike">
                <a:solidFill>
                  <a:srgbClr val="ffffcc"/>
                </a:solidFill>
                <a:latin typeface="Verdana"/>
              </a:rPr>
              <a:t>3.</a:t>
            </a:r>
            <a:r>
              <a:rPr b="1" i="1" lang="pl-PL" sz="2000" spc="-1" strike="noStrike">
                <a:solidFill>
                  <a:srgbClr val="eaeaea"/>
                </a:solidFill>
                <a:latin typeface="Verdana"/>
              </a:rPr>
              <a:t> Wybrane zagadnienia poradnictwa małżeńskieg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i="1" lang="pl-PL" sz="2000" spc="-1" strike="noStrike">
                <a:solidFill>
                  <a:srgbClr val="eaeaea"/>
                </a:solidFill>
                <a:latin typeface="Verdana"/>
              </a:rPr>
              <a:t>i rodzinnego / pod red. Mikołaja Kozakiewicza. - Warszawa, 1985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Małżeństwo – poradnictw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Rodzina – poradnictw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Seksuologia - poradnictw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aeaea"/>
                </a:solidFill>
                <a:latin typeface="Arial"/>
              </a:rPr>
              <a:t>Dotychczasowe hasło </a:t>
            </a:r>
            <a:r>
              <a:rPr b="1" lang="pl-PL" sz="2000" spc="-1" strike="noStrike">
                <a:solidFill>
                  <a:srgbClr val="eaeaea"/>
                </a:solidFill>
                <a:latin typeface="Arial"/>
              </a:rPr>
              <a:t>Etyka płciowa</a:t>
            </a:r>
            <a:r>
              <a:rPr b="0" lang="pl-PL" sz="2000" spc="-1" strike="noStrike">
                <a:solidFill>
                  <a:srgbClr val="eaeaea"/>
                </a:solidFill>
                <a:latin typeface="Arial"/>
              </a:rPr>
              <a:t> zastąpiono hasłem </a:t>
            </a:r>
            <a:r>
              <a:rPr b="1" lang="pl-PL" sz="2000" spc="-1" strike="noStrike">
                <a:solidFill>
                  <a:srgbClr val="eaeaea"/>
                </a:solidFill>
                <a:latin typeface="Arial"/>
              </a:rPr>
              <a:t>Etyka seksualna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Arial"/>
              </a:rPr>
              <a:t>                Etyka seksualna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 NU    Etyka płciowa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                       Popęd płciowy|xetyka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TS              Etyka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                 TK   Ciało ludzkie w teologii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             Czystość (etyka)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                 Nieczystość (etyka)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                Zdrada małżeńska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             Życie seksualn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eaeaea"/>
                </a:solidFill>
                <a:latin typeface="Arial"/>
              </a:rPr>
              <a:t>Etyka seksualna: </a:t>
            </a:r>
            <a:r>
              <a:rPr b="0" i="1" lang="pl-PL" sz="2000" spc="-1" strike="noStrike">
                <a:solidFill>
                  <a:srgbClr val="eaeaea"/>
                </a:solidFill>
                <a:latin typeface="Arial"/>
              </a:rPr>
              <a:t>przykłady stosowania</a:t>
            </a:r>
            <a:br>
              <a:rPr sz="2000"/>
            </a:br>
            <a:br>
              <a:rPr sz="2000"/>
            </a:br>
            <a:r>
              <a:rPr b="0" i="1" lang="pl-PL" sz="2000" spc="-1" strike="noStrike">
                <a:solidFill>
                  <a:srgbClr val="eaeaea"/>
                </a:solidFill>
                <a:latin typeface="Arial"/>
              </a:rPr>
              <a:t>1.</a:t>
            </a:r>
            <a:r>
              <a:rPr b="0" i="1" lang="pl-PL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pl-PL" sz="2000" spc="-1" strike="noStrike">
                <a:solidFill>
                  <a:srgbClr val="ffffcc"/>
                </a:solidFill>
                <a:latin typeface="Arial"/>
              </a:rPr>
              <a:t>Ciało śmiertelne i chwalebne : wprowadzenie do teopoetyki ciała / Olivier Clement. – Warszawa, 1999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Bioetyka – prawosławie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Ciało ludzkie w teologii - prawosławie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Etyka seksualna – prawosławie</a:t>
            </a:r>
            <a:br>
              <a:rPr sz="2000"/>
            </a:br>
            <a:br>
              <a:rPr sz="2000"/>
            </a:br>
            <a:r>
              <a:rPr b="0" i="1" lang="pl-PL" sz="2000" spc="-1" strike="noStrike">
                <a:solidFill>
                  <a:srgbClr val="eaeaea"/>
                </a:solidFill>
                <a:latin typeface="Arial"/>
              </a:rPr>
              <a:t>2.</a:t>
            </a: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pl-PL" sz="20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1" i="1" lang="pl-PL" sz="2000" spc="-1" strike="noStrike">
                <a:solidFill>
                  <a:srgbClr val="ffffcc"/>
                </a:solidFill>
                <a:latin typeface="Arial"/>
              </a:rPr>
              <a:t>ałżeństwo i etyka seksualna w teologicznej refleksji Marcina Lutra / Władysław Paciasz. – Częstochowa, 1993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Luther, Martin - (1483-1546) - twórczość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Etyka chrześcijańska – protestantyzm – historia – Niemcy - 16 w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Etyka seksualna – teologia – protestantyzm – historia – Niemcy - 16 w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Małżeństwo – teologia – protestantyzm – historia – Niemcy - 16 w.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pl-PL" sz="2000" spc="-1" strike="noStrike">
                <a:solidFill>
                  <a:srgbClr val="eaeaea"/>
                </a:solidFill>
                <a:latin typeface="Arial"/>
              </a:rPr>
              <a:t>3.</a:t>
            </a: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pl-PL" sz="2000" spc="-1" strike="noStrike">
                <a:solidFill>
                  <a:srgbClr val="ffffcc"/>
                </a:solidFill>
                <a:latin typeface="Arial"/>
              </a:rPr>
              <a:t>Szanse i zagrożenia ludzkiej płciowości  / pod red. Ludwiki  Sadowskiej. – Szczecinek, 2004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Etyka seksualna – katolicyzm - materiały konferencyjne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Wychowanie seksualne – katolicyzm - materiały konferencyjn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ffffcc"/>
                </a:solidFill>
                <a:latin typeface="Verdana"/>
              </a:rPr>
              <a:t>Etyka seksualna – moralne aspekty życia seksualnego (nie tylko religijne):przykład stosowani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ffcc"/>
                </a:solidFill>
                <a:latin typeface="Verdana"/>
              </a:rPr>
              <a:t>1.</a:t>
            </a:r>
            <a:r>
              <a:rPr b="1" i="1" lang="pl-PL" sz="2000" spc="-1" strike="noStrike">
                <a:solidFill>
                  <a:srgbClr val="eaeaea"/>
                </a:solidFill>
                <a:latin typeface="Verdana"/>
              </a:rPr>
              <a:t> Moralność a seks i kobieta : (w wybranych kulturach) / Julian Andrzej Kultys. – Słupsk, 1999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eaeaea"/>
                </a:solidFill>
                <a:latin typeface="Verdana"/>
              </a:rPr>
              <a:t>                  </a:t>
            </a:r>
            <a:r>
              <a:rPr b="1" lang="pl-PL" sz="2000" spc="-1" strike="noStrike">
                <a:solidFill>
                  <a:srgbClr val="eaeaea"/>
                </a:solidFill>
                <a:latin typeface="Verdana"/>
              </a:rPr>
              <a:t>Etyka seksualna -- histori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eaeaea"/>
                </a:solidFill>
                <a:latin typeface="Verdana"/>
              </a:rPr>
              <a:t>                  </a:t>
            </a:r>
            <a:r>
              <a:rPr b="1" lang="pl-PL" sz="2000" spc="-1" strike="noStrike">
                <a:solidFill>
                  <a:srgbClr val="eaeaea"/>
                </a:solidFill>
                <a:latin typeface="Verdana"/>
              </a:rPr>
              <a:t>Kobieta -- socjologi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eaeaea"/>
                </a:solidFill>
                <a:latin typeface="Verdana"/>
              </a:rPr>
              <a:t>                  </a:t>
            </a:r>
            <a:r>
              <a:rPr b="1" lang="pl-PL" sz="2000" spc="-1" strike="noStrike">
                <a:solidFill>
                  <a:srgbClr val="eaeaea"/>
                </a:solidFill>
                <a:latin typeface="Verdana"/>
              </a:rPr>
              <a:t>Kultura -- histori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ffffcc"/>
                </a:solidFill>
                <a:latin typeface="Verdana"/>
              </a:rPr>
              <a:t>Życie seksualne-higiena, Choroby przenoszone drogą płciową-zapobieganie: przykłady stosowani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cc"/>
                </a:solidFill>
                <a:latin typeface="Verdana"/>
              </a:rPr>
              <a:t>1.</a:t>
            </a:r>
            <a:r>
              <a:rPr b="0" i="1" lang="pl-PL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i="1" lang="pl-PL" sz="2000" spc="-1" strike="noStrike">
                <a:solidFill>
                  <a:srgbClr val="eaeaea"/>
                </a:solidFill>
                <a:latin typeface="Verdana"/>
              </a:rPr>
              <a:t>Bezpieczniejszy seks / Ruth Westheimer. - Warszawa,</a:t>
            </a:r>
            <a:r>
              <a:rPr b="1" i="1" lang="pl-PL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i="1" lang="pl-PL" sz="2000" spc="-1" strike="noStrike">
                <a:solidFill>
                  <a:srgbClr val="eaeaea"/>
                </a:solidFill>
                <a:latin typeface="Verdana"/>
              </a:rPr>
              <a:t>1997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HIV -- zakażenie -- zapobieganie -- wydawnictwa popularn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Choroby przenoszone drogą płciową -- zapobieganie – wydawnictw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        </a:t>
            </a: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popularn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Życie seksualne -- higiena -- wydawnictwa popularn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cc"/>
                </a:solidFill>
                <a:latin typeface="Verdana"/>
              </a:rPr>
              <a:t>2.</a:t>
            </a:r>
            <a:r>
              <a:rPr b="0" i="1" lang="pl-PL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i="1" lang="pl-PL" sz="2000" spc="-1" strike="noStrike">
                <a:solidFill>
                  <a:srgbClr val="eaeaea"/>
                </a:solidFill>
                <a:latin typeface="Verdana"/>
              </a:rPr>
              <a:t>Profilaktyka ryzykownych zachowań seksualnych młodzieży :aktualny stan badań na świecie i w Polsce : materiały z konferencji zorganizowanej przez Komisję Rodziny i Polityki Społecznej Senatu RP 24 kwietnia 2006 r. - Warszawa, 2006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AIDS -- zapobieganie -- materiały konferencyjn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Choroby przenoszone drogą płciową -- zapobieganie -- materiały konferencyjn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HIV -- zakażenie -- zapobieganie -- materiały konferencyjn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Młodzież -- choroby -- zapobieganie -- materiały konferencyjn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Verdana"/>
              </a:rPr>
              <a:t>Życie seksualne-psychologia: przykłady stosowani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Verdana"/>
              </a:rPr>
              <a:t>1.</a:t>
            </a: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i="1" lang="pl-PL" sz="2000" spc="-1" strike="noStrike">
                <a:solidFill>
                  <a:srgbClr val="eaeaea"/>
                </a:solidFill>
                <a:latin typeface="Verdana"/>
              </a:rPr>
              <a:t>Psychospołeczne determinanty funkcjonowania seksualnego osób z uszkodzeniem rdzenia kręgowego / Janusz Kirenko. – Lublin, 1998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          </a:t>
            </a: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Niepełnosprawni ruchowo – seksualność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          </a:t>
            </a: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Niepełnosprawni ruchowo -- socjologia – Polsk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          </a:t>
            </a: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Rdzeń kręgowy – chorob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          </a:t>
            </a: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Życie seksualne – psychologi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          </a:t>
            </a: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Życie seksualne – socjologi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Verdana"/>
              </a:rPr>
              <a:t>2.</a:t>
            </a: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i="1" lang="pl-PL" sz="2000" spc="-1" strike="noStrike">
                <a:solidFill>
                  <a:srgbClr val="eaeaea"/>
                </a:solidFill>
                <a:latin typeface="Verdana"/>
              </a:rPr>
              <a:t>Seksualność w cyklu życia człowieka / pod red. Marii Beisert. - Poznań : Zakład Wydawniczy K. Domke, 2004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                </a:t>
            </a: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Życie seksualne -- psychologi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eaeaea"/>
                </a:solidFill>
                <a:latin typeface="Arial"/>
              </a:rPr>
              <a:t>Pozostaje w użyciu hasło Erotyzm dla wyrażenia najogólniej pojmowanej seksualności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Arial"/>
              </a:rPr>
              <a:t>Erotyzm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zt. odpowiednie tematy z określnikiem - seksualność, np.: Kobieta - seksualność, Niepełnosprawni - seksualność, Dziecko -  seksualność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NU  Seksualność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TK  Seksuologia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              Życie seksualn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pl-PL" sz="2000" spc="-1" strike="noStrike">
                <a:solidFill>
                  <a:srgbClr val="eaeaea"/>
                </a:solidFill>
                <a:latin typeface="Arial"/>
              </a:rPr>
              <a:t>Erotyzm</a:t>
            </a:r>
            <a:r>
              <a:rPr b="0" i="1" lang="pl-PL" sz="2000" spc="-1" strike="noStrike">
                <a:solidFill>
                  <a:srgbClr val="eaeaea"/>
                </a:solidFill>
                <a:latin typeface="Arial"/>
              </a:rPr>
              <a:t>: przykłady użycia</a:t>
            </a:r>
            <a:br>
              <a:rPr sz="2000"/>
            </a:br>
            <a:br>
              <a:rPr sz="2000"/>
            </a:br>
            <a:r>
              <a:rPr b="1" i="1" lang="pl-PL" sz="2000" spc="-1" strike="noStrike">
                <a:solidFill>
                  <a:srgbClr val="eaeaea"/>
                </a:solidFill>
                <a:latin typeface="Arial"/>
              </a:rPr>
              <a:t>1.</a:t>
            </a:r>
            <a:r>
              <a:rPr b="1" i="1" lang="pl-PL" sz="2000" spc="-1" strike="noStrike">
                <a:solidFill>
                  <a:srgbClr val="ffffcc"/>
                </a:solidFill>
                <a:latin typeface="Arial"/>
              </a:rPr>
              <a:t> Dar jedności : nowe spojrzenie na erotyzm człowieka / Włodzimierz Fijałkowski, Krystyna Neugebauer, Anna Stelmaszczyk. – Warszawa, 1988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Erotyzm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Etyka seksualna – katolicyzm</a:t>
            </a:r>
            <a:br>
              <a:rPr sz="2000"/>
            </a:br>
            <a:br>
              <a:rPr sz="2000"/>
            </a:br>
            <a:r>
              <a:rPr b="0" i="1" lang="pl-PL" sz="2000" spc="-1" strike="noStrike">
                <a:solidFill>
                  <a:srgbClr val="eaeaea"/>
                </a:solidFill>
                <a:latin typeface="Arial"/>
              </a:rPr>
              <a:t>2.</a:t>
            </a: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pl-PL" sz="2000" spc="-1" strike="noStrike">
                <a:solidFill>
                  <a:srgbClr val="ffffcc"/>
                </a:solidFill>
                <a:latin typeface="Arial"/>
              </a:rPr>
              <a:t>Erotyczna mowa ciała / Erika Berżer – Wrocław, 1993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Erotyzm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Komunikacja niewerbalna</a:t>
            </a:r>
            <a:br>
              <a:rPr sz="2000"/>
            </a:br>
            <a:br>
              <a:rPr sz="2000"/>
            </a:br>
            <a:r>
              <a:rPr b="0" i="1" lang="pl-PL" sz="2000" spc="-1" strike="noStrike">
                <a:solidFill>
                  <a:srgbClr val="eaeaea"/>
                </a:solidFill>
                <a:latin typeface="Arial"/>
              </a:rPr>
              <a:t>3.</a:t>
            </a: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pl-PL" sz="2000" spc="-1" strike="noStrike">
                <a:solidFill>
                  <a:srgbClr val="ffffcc"/>
                </a:solidFill>
                <a:latin typeface="Arial"/>
              </a:rPr>
              <a:t>Inteligencja seksualna / Kim Cattrall. – Warszawa, 2006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Erotyzm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Życie seksualn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eaeaea"/>
                </a:solidFill>
                <a:latin typeface="Arial"/>
              </a:rPr>
              <a:t>4.</a:t>
            </a:r>
            <a:r>
              <a:rPr b="1" i="1" lang="pl-PL" sz="2000" spc="-1" strike="noStrike">
                <a:solidFill>
                  <a:srgbClr val="ffffcc"/>
                </a:solidFill>
                <a:latin typeface="Arial"/>
              </a:rPr>
              <a:t> Eros niebiański i wszeteczny : greckie ideały piękna i miłości / Zdzisław Wróbel. -  Bydgoszcz, 2003</a:t>
            </a:r>
            <a:br>
              <a:rPr sz="2000"/>
            </a:br>
            <a:r>
              <a:rPr b="0" i="1" lang="pl-PL" sz="2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Erotyzm -- Grecja -- do 4 w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Erotyzm -- literatura grecka    </a:t>
            </a:r>
            <a:r>
              <a:rPr b="1" lang="pl-PL" sz="2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Erotyzm -- sztuka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Literatura grecka -- tematyka -- do 4 w.    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Sztuka grecka -- tematyka -- do 4 w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Grecja -- kultura -- socjologia -- do 4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w.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pl-PL" sz="2000" spc="-1" strike="noStrike">
                <a:solidFill>
                  <a:srgbClr val="eaeaea"/>
                </a:solidFill>
                <a:latin typeface="Arial"/>
              </a:rPr>
              <a:t>5.</a:t>
            </a:r>
            <a:r>
              <a:rPr b="1" lang="pl-PL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pl-PL" sz="2000" spc="-1" strike="noStrike">
                <a:solidFill>
                  <a:srgbClr val="ffffcc"/>
                </a:solidFill>
                <a:latin typeface="Arial"/>
              </a:rPr>
              <a:t>Eros, psyche, seks : materiały z konferencji "Język a erotyka" zorganizowanej przez koło naukowe językoznawców Uniwersytetu Śląskiego : praca zbiorowa / pod red. Romualdy Piętkowej. – Katowice, 1993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Erotyzm – język - materiały konferencyjne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Erotyzm - literatura polska - materiały konferencyjne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Język polski – słownictwo - materiały konferencyjne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Literatura polska – tematyka - materiały konferencyjn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eaeaea"/>
                </a:solidFill>
                <a:latin typeface="Arial"/>
              </a:rPr>
              <a:t>6.</a:t>
            </a:r>
            <a:r>
              <a:rPr b="1" i="1" lang="pl-PL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cc"/>
                </a:solidFill>
                <a:latin typeface="Arial"/>
              </a:rPr>
              <a:t>Szymanowski, eroticism and the voices of mythology / Stephen  Downes. – Aldershot, 2003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Szymanowski, Karol (1882-1937) - twórczość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Erotyzm - w muzyce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Mitologia - w muzyce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Muzyka polska – historia - 20 w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Hasła dotychczasowe pozostające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w użyciu: Seksuologia, Erotyzm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owe hasło: Życie seksualne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owy określnik: seksualność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Verdana"/>
              </a:rPr>
              <a:t>Nowy określnik -</a:t>
            </a:r>
            <a:r>
              <a:rPr b="1" i="1" lang="pl-PL" sz="2000" spc="-1" strike="noStrike">
                <a:solidFill>
                  <a:srgbClr val="ffffcc"/>
                </a:solidFill>
                <a:latin typeface="Verdana"/>
              </a:rPr>
              <a:t>seksualność</a:t>
            </a:r>
            <a:r>
              <a:rPr b="1" lang="pl-PL" sz="2000" spc="-1" strike="noStrike">
                <a:solidFill>
                  <a:srgbClr val="ffffcc"/>
                </a:solidFill>
                <a:latin typeface="Verdana"/>
              </a:rPr>
              <a:t>.</a:t>
            </a:r>
            <a:r>
              <a:rPr b="0" lang="pl-PL" sz="20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Stosuje się po kategoriach osób np. </a:t>
            </a:r>
            <a:r>
              <a:rPr b="0" i="1" lang="pl-PL" sz="2000" spc="-1" strike="noStrike">
                <a:solidFill>
                  <a:srgbClr val="eaeaea"/>
                </a:solidFill>
                <a:latin typeface="Verdana"/>
              </a:rPr>
              <a:t>Kobieta – seksualność</a:t>
            </a: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i="1" lang="pl-PL" sz="2000" spc="-1" strike="noStrike">
                <a:solidFill>
                  <a:srgbClr val="eaeaea"/>
                </a:solidFill>
                <a:latin typeface="Verdana"/>
              </a:rPr>
              <a:t>Chłopcy – seksualność</a:t>
            </a: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i="1" lang="pl-PL" sz="2000" spc="-1" strike="noStrike">
                <a:solidFill>
                  <a:srgbClr val="eaeaea"/>
                </a:solidFill>
                <a:latin typeface="Verdana"/>
              </a:rPr>
              <a:t>Młodzież – seksualność</a:t>
            </a: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Po określniku – </a:t>
            </a:r>
            <a:r>
              <a:rPr b="1" i="1" lang="pl-PL" sz="2000" spc="-1" strike="noStrike">
                <a:solidFill>
                  <a:srgbClr val="eaeaea"/>
                </a:solidFill>
                <a:latin typeface="Verdana"/>
              </a:rPr>
              <a:t>seksualność</a:t>
            </a:r>
            <a:r>
              <a:rPr b="0" i="1" lang="pl-PL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nie stosuje się określników geograficznych i chronologicznych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eaeaea"/>
                </a:solidFill>
                <a:latin typeface="Arial"/>
              </a:rPr>
              <a:t>określnik</a:t>
            </a:r>
            <a:r>
              <a:rPr b="1" i="1" lang="pl-PL" sz="2000" spc="-1" strike="noStrike">
                <a:solidFill>
                  <a:srgbClr val="eaeaea"/>
                </a:solidFill>
                <a:latin typeface="Arial"/>
              </a:rPr>
              <a:t> seksualność: </a:t>
            </a:r>
            <a:r>
              <a:rPr b="0" i="1" lang="pl-PL" sz="2000" spc="-1" strike="noStrike">
                <a:solidFill>
                  <a:srgbClr val="eaeaea"/>
                </a:solidFill>
                <a:latin typeface="Arial"/>
              </a:rPr>
              <a:t>przykłady stosowania</a:t>
            </a:r>
            <a:br>
              <a:rPr sz="2000"/>
            </a:br>
            <a:r>
              <a:rPr b="0" i="1" lang="pl-PL" sz="2000" spc="-1" strike="noStrike">
                <a:solidFill>
                  <a:srgbClr val="eaeaea"/>
                </a:solidFill>
                <a:latin typeface="Arial"/>
              </a:rPr>
              <a:t>1. </a:t>
            </a:r>
            <a:r>
              <a:rPr b="1" i="1" lang="pl-PL" sz="2000" spc="-1" strike="noStrike">
                <a:solidFill>
                  <a:srgbClr val="ffffcc"/>
                </a:solidFill>
                <a:latin typeface="Arial"/>
              </a:rPr>
              <a:t>Zagrożona niewinność : zakłócenia rozwoju seksualności współczesnej  młodzieży / Jacek Kurzępa. – Kraków, 2007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Młodzież - seksualność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Młodzież – socjologia – Polska - od 2001 r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Życie seksualne – socjologia – Polska - od 2001 r.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pl-PL" sz="2000" spc="-1" strike="noStrike">
                <a:solidFill>
                  <a:srgbClr val="eaeaea"/>
                </a:solidFill>
                <a:latin typeface="Arial"/>
              </a:rPr>
              <a:t>2.</a:t>
            </a: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pl-PL" sz="2000" spc="-1" strike="noStrike">
                <a:solidFill>
                  <a:srgbClr val="ffffcc"/>
                </a:solidFill>
                <a:latin typeface="Arial"/>
              </a:rPr>
              <a:t>Wieczne dzieci czy dorośli : problem seksualności osób z niepełnosprawnością intelektualną / [przygot. tekstów Janina Graban ; aut. Daria Mejnartowicz et al.]. –  Warszawa, 2002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Niepełnosprawni umysłowo - seksualność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Niepełnosprawni umysłowo – socjologia – Polska - od 1989 r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Świadomość społeczna – Polska - od 1989 r.</a:t>
            </a:r>
            <a:br>
              <a:rPr sz="2000"/>
            </a:br>
            <a:br>
              <a:rPr sz="2000"/>
            </a:br>
            <a:r>
              <a:rPr b="0" i="1" lang="pl-PL" sz="2000" spc="-1" strike="noStrike">
                <a:solidFill>
                  <a:srgbClr val="eaeaea"/>
                </a:solidFill>
                <a:latin typeface="Arial"/>
              </a:rPr>
              <a:t>3.</a:t>
            </a: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pl-PL" sz="2000" spc="-1" strike="noStrike">
                <a:solidFill>
                  <a:srgbClr val="ffffcc"/>
                </a:solidFill>
                <a:latin typeface="Arial"/>
              </a:rPr>
              <a:t>Rozwój erotyczny / Irena Obuchowska, Andrzej Jaczewski. – Warszawa, 1982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Dziecko - rozwój psychofizyczny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Dziecko - seksualność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Młodzież - rozwój psychofizyczny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Młodzież - seksualność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Wychowanie seksualn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ematu </a:t>
            </a:r>
            <a:r>
              <a:rPr b="1" i="1" lang="en-US" sz="2000" spc="-1" strike="noStrike">
                <a:solidFill>
                  <a:srgbClr val="eaeaea"/>
                </a:solidFill>
                <a:latin typeface="Verdana"/>
              </a:rPr>
              <a:t>Wychowanie seksualn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używamy dla prac na temat wychowania seksualnego przeznaczonych dla rodziców, wychowawców, nauczycieli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la prac na temat życia seksualnego przeznaczonych dla dzieci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 młodzieży stosujemy hasło 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Życie seksualne - wydawnictwa dla młodzieży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Życie seksualne – wydawnictwa dla dzieci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eaeaea"/>
                </a:solidFill>
                <a:latin typeface="Arial"/>
              </a:rPr>
              <a:t>Wychowanie seksualne: </a:t>
            </a:r>
            <a:r>
              <a:rPr b="0" i="1" lang="pl-PL" sz="2000" spc="-1" strike="noStrike">
                <a:solidFill>
                  <a:srgbClr val="eaeaea"/>
                </a:solidFill>
                <a:latin typeface="Arial"/>
              </a:rPr>
              <a:t>przykłady stosowania</a:t>
            </a:r>
            <a:br>
              <a:rPr sz="2000"/>
            </a:br>
            <a:br>
              <a:rPr sz="2000"/>
            </a:br>
            <a:r>
              <a:rPr b="0" i="1" lang="pl-PL" sz="2000" spc="-1" strike="noStrike">
                <a:solidFill>
                  <a:srgbClr val="eaeaea"/>
                </a:solidFill>
                <a:latin typeface="Arial"/>
              </a:rPr>
              <a:t>1.</a:t>
            </a:r>
            <a:r>
              <a:rPr b="1" i="1" lang="pl-PL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pl-PL" sz="2000" spc="-1" strike="noStrike">
                <a:solidFill>
                  <a:srgbClr val="ffffcc"/>
                </a:solidFill>
                <a:latin typeface="Arial"/>
              </a:rPr>
              <a:t>Ludzka płciowość - prawda i znaczenie : wskazania dla wychowania </a:t>
            </a:r>
            <a:br>
              <a:rPr sz="2000"/>
            </a:br>
            <a:r>
              <a:rPr b="1" i="1" lang="pl-PL" sz="2000" spc="-1" strike="noStrike">
                <a:solidFill>
                  <a:srgbClr val="ffffcc"/>
                </a:solidFill>
                <a:latin typeface="Arial"/>
              </a:rPr>
              <a:t>w rodzinie / [oprac. i tł. z wł. zespół pod red. Kazimierza Majdańskiego]. – Łomianki, 1996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Etyka seksualna - katolicyzm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Wychowanie seksualne - katolicyzm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Wychowanie w rodzinie – katolicyzm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pl-PL" sz="2000" spc="-1" strike="noStrike">
                <a:solidFill>
                  <a:srgbClr val="eaeaea"/>
                </a:solidFill>
                <a:latin typeface="Arial"/>
              </a:rPr>
              <a:t>2.</a:t>
            </a:r>
            <a:r>
              <a:rPr b="1" lang="pl-PL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pl-PL" sz="2000" spc="-1" strike="noStrike">
                <a:solidFill>
                  <a:srgbClr val="ffffcc"/>
                </a:solidFill>
                <a:latin typeface="Arial"/>
              </a:rPr>
              <a:t>Wychowanie prorodzinne i seksualne : scenariusze lekcji, rozmowy : materiały pomocnicze dla nauczycieli szkół podstawowych </a:t>
            </a:r>
            <a:br>
              <a:rPr sz="2000"/>
            </a:br>
            <a:r>
              <a:rPr b="1" i="1" lang="pl-PL" sz="2000" spc="-1" strike="noStrike">
                <a:solidFill>
                  <a:srgbClr val="ffffcc"/>
                </a:solidFill>
                <a:latin typeface="Arial"/>
              </a:rPr>
              <a:t>i ponadpodstawowych / pod red. Janiny Miazgowicz. – Katowice,1998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Przysposobienie do życia w rodzinie - szkoły podstawowe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Przysposobienie do życia w rodzinie - szkoły średnie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Wychowanie seksualne - szkoły podstawowe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Wychowanie seksualne - szkoły średni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eaeaea"/>
                </a:solidFill>
                <a:latin typeface="Arial"/>
              </a:rPr>
              <a:t>3.</a:t>
            </a: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pl-PL" sz="2000" spc="-1" strike="noStrike">
                <a:solidFill>
                  <a:srgbClr val="ffffcc"/>
                </a:solidFill>
                <a:latin typeface="Arial"/>
              </a:rPr>
              <a:t>Pytania o miłość : 8-11 lat / Virginie Dumont, Serge Montagnat. – Warszawa, 1999</a:t>
            </a:r>
            <a:br>
              <a:rPr sz="2000"/>
            </a:br>
            <a:r>
              <a:rPr b="0" i="1" lang="pl-PL" sz="2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 Życie seksualne - wydawnictwa dla dzieci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i="1" lang="pl-PL" sz="2000" spc="-1" strike="noStrike">
                <a:solidFill>
                  <a:srgbClr val="eaeaea"/>
                </a:solidFill>
                <a:latin typeface="Arial"/>
              </a:rPr>
              <a:t>4.</a:t>
            </a:r>
            <a:r>
              <a:rPr b="1" lang="pl-PL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pl-PL" sz="2000" spc="-1" strike="noStrike">
                <a:solidFill>
                  <a:srgbClr val="ffffcc"/>
                </a:solidFill>
                <a:latin typeface="Arial"/>
              </a:rPr>
              <a:t>Czy zawsze chodzi o miłość ? / Jadwiga Wilk. – Wrocław, 1995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Miłość - wydawnictwa dla młodzieży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Życie seksualne - wydawnictwa dla młodzież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Dla uproszczenia opracowania encyklopedii i słowników wprowadzono następujące rozwiązania: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 </a:t>
            </a:r>
            <a:br>
              <a:rPr sz="4400"/>
            </a:br>
            <a:br>
              <a:rPr sz="4400"/>
            </a:b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Seksuologia - encyklopedia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NU   Erotyzm - encyklopedia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                   Życie seksualne - encyklopedia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Seksuologia – terminologia 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NU   Erotyzm - terminologia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                 Życie seksualne - terminologi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700"/>
            </a:b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Hasło </a:t>
            </a: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Seksuologia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 stosowane będzie tylko w odniesieniu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do dziedziny nauki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Seksuologi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S Medycyn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K Erotyzm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   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Wenerologi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          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Życie seksualn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109D-8888-4D4B-9406-490ACB924D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aeaea"/>
                </a:solidFill>
                <a:latin typeface="Arial"/>
              </a:rPr>
              <a:t>Hasło </a:t>
            </a:r>
            <a:r>
              <a:rPr b="1" lang="pl-PL" sz="2000" spc="-1" strike="noStrike">
                <a:solidFill>
                  <a:srgbClr val="eaeaea"/>
                </a:solidFill>
                <a:latin typeface="Arial"/>
              </a:rPr>
              <a:t>Życie seksualne</a:t>
            </a:r>
            <a:r>
              <a:rPr b="0" lang="pl-PL" sz="2000" spc="-1" strike="noStrike">
                <a:solidFill>
                  <a:srgbClr val="eaeaea"/>
                </a:solidFill>
                <a:latin typeface="Arial"/>
              </a:rPr>
              <a:t> stosowane będzie do opisu praktycznej sfery życia seksualnego</a:t>
            </a:r>
            <a:r>
              <a:rPr b="0" lang="pl-PL" sz="18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Arial"/>
              </a:rPr>
              <a:t>Życie seksualne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 zt. odpowiednie tematy z określnikiem - seksualność, np.: Kobieta - seksualność, Niepełnosprawni - seksualność, Dziecko - seksualność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                    NU  Aktywność seksualna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        Kopulacja 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                  Pożycie płciowe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 Seks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             Spółkowanie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                   Stosunki płciowe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                        Stosunki seksualne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                         Współżycie płciowe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                             Współżycie seksualne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                               Zachowania seksualne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K     Afrodyzjaki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                          Czasopisma erotyczne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          Biseksualizm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          Dziewictwo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          Erotyzm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          Etyka seksualna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          Flirt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          Fizjologia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          Homoseksualizm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          Masaż erotyczny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          Miłość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          Onanizm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          Orgazm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          Płeć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          Popęd płciowy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rawo pierwszej nocy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          Prostytucja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          Przestępstwo przeciw wolności seksualnej i obyczajności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          Seksuologia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          Wychowanie seksualne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          Zaburzenia i dewiacje seksualne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eaeaea"/>
                </a:solidFill>
                <a:latin typeface="Arial"/>
              </a:rPr>
              <a:t>Życie seksualne</a:t>
            </a:r>
            <a:r>
              <a:rPr b="0" lang="pl-PL" sz="2000" spc="-1" strike="noStrike">
                <a:solidFill>
                  <a:srgbClr val="eaeaea"/>
                </a:solidFill>
                <a:latin typeface="Arial"/>
              </a:rPr>
              <a:t>: przykłady stosowania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i="1" lang="pl-PL" sz="20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pl-PL" sz="20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1" i="1" lang="pl-PL" sz="2000" spc="-1" strike="noStrike">
                <a:solidFill>
                  <a:srgbClr val="ffffcc"/>
                </a:solidFill>
                <a:latin typeface="Arial"/>
              </a:rPr>
              <a:t>Arkana seksu, ekstaza i jedność : i ty możesz osiągnąć maksimum</a:t>
            </a:r>
            <a:br>
              <a:rPr sz="2000"/>
            </a:br>
            <a:r>
              <a:rPr b="1" i="1" lang="pl-PL" sz="2000" spc="-1" strike="noStrike">
                <a:solidFill>
                  <a:srgbClr val="ffffcc"/>
                </a:solidFill>
                <a:latin typeface="Arial"/>
              </a:rPr>
              <a:t> spełnienia w seksualnej sferze twojego związku / Rafał Seremet. – Gliwice, 2007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Życie seksualne – poradnik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i="1" lang="pl-PL" sz="20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i="1" lang="pl-PL" sz="20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1" i="1" lang="pl-PL" sz="2000" spc="-1" strike="noStrike">
                <a:solidFill>
                  <a:srgbClr val="ffffcc"/>
                </a:solidFill>
                <a:latin typeface="Arial"/>
              </a:rPr>
              <a:t>Japonia / Jolanta Tubielewicz. Aztekowie / Maria Frankowska. - Warszawa, 1993  </a:t>
            </a:r>
            <a:br>
              <a:rPr sz="2000"/>
            </a:br>
            <a:br>
              <a:rPr sz="2000"/>
            </a:br>
            <a:r>
              <a:rPr b="0" i="1" lang="pl-PL" sz="20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Mitologia aztecka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      Mitologia japońska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      Życie seksualne -- etnografia -- Japonia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      Życie seksualne -- etnografia – Meksyk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i="1" lang="pl-PL" sz="2000" spc="-1" strike="noStrike">
                <a:solidFill>
                  <a:srgbClr val="ffffcc"/>
                </a:solidFill>
                <a:latin typeface="Verdana"/>
              </a:rPr>
              <a:t>3</a:t>
            </a:r>
            <a:r>
              <a:rPr b="1" i="1" lang="pl-PL" sz="2000" spc="-1" strike="noStrike">
                <a:solidFill>
                  <a:srgbClr val="ffffcc"/>
                </a:solidFill>
                <a:latin typeface="Verdana"/>
              </a:rPr>
              <a:t>.</a:t>
            </a:r>
            <a:r>
              <a:rPr b="1" i="1" lang="pl-PL" sz="2000" spc="-1" strike="noStrike">
                <a:solidFill>
                  <a:srgbClr val="eaeaea"/>
                </a:solidFill>
                <a:latin typeface="Verdana"/>
              </a:rPr>
              <a:t> Psychologia miłości i seksualności / Conrad Baars ; przeł. Jolanta Czapczyk. - Poznań, 2003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eaeaea"/>
                </a:solidFill>
                <a:latin typeface="Verdana"/>
              </a:rPr>
              <a:t>        </a:t>
            </a: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Etyka seksualna -- katolicyzm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        </a:t>
            </a: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Miłość -- katolicyzm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        </a:t>
            </a: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Miłość – psychologi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        </a:t>
            </a: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Życie seksualne – psychologi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i="1" lang="pl-PL" sz="2000" spc="-1" strike="noStrike">
                <a:solidFill>
                  <a:srgbClr val="ffffcc"/>
                </a:solidFill>
                <a:latin typeface="Verdana"/>
              </a:rPr>
              <a:t>4.</a:t>
            </a:r>
            <a:r>
              <a:rPr b="0" i="1" lang="pl-PL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i="1" lang="pl-PL" sz="2000" spc="-1" strike="noStrike">
                <a:solidFill>
                  <a:srgbClr val="eaeaea"/>
                </a:solidFill>
                <a:latin typeface="Verdana"/>
              </a:rPr>
              <a:t>Współżycie seksualne w nauczaniu biblijnym / Marek Babik. - Kraków, 2003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Biblia -- analiza i interpretacja</a:t>
            </a:r>
            <a:br>
              <a:rPr sz="2000"/>
            </a:b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Płeć -- w Biblii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Życie seksualne -- w Biblii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eaeaea"/>
                </a:solidFill>
                <a:latin typeface="Arial"/>
              </a:rPr>
              <a:t>5.</a:t>
            </a:r>
            <a:r>
              <a:rPr b="1" i="1" lang="pl-PL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cc"/>
                </a:solidFill>
                <a:latin typeface="Arial"/>
              </a:rPr>
              <a:t>Gender in film and the media : east-west dialogues / Elżbieta H. Oleksy, Elżbieta Ostrowska, Michael Stevenson. - Frankfurt am Main, 2000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Ciało ludzkie w sztuce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 Film -- tematyka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 Płeć -- w filmie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 Płeć -- socjologia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 Życie seksualne -- w filmie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 Życie seksualne – socjologi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eaeaea"/>
                </a:solidFill>
                <a:latin typeface="Arial"/>
              </a:rPr>
              <a:t>Hasło </a:t>
            </a:r>
            <a:r>
              <a:rPr b="1" i="1" lang="pl-PL" sz="2000" spc="-1" strike="noStrike">
                <a:solidFill>
                  <a:srgbClr val="eaeaea"/>
                </a:solidFill>
                <a:latin typeface="Arial"/>
              </a:rPr>
              <a:t>Życie seksualne</a:t>
            </a:r>
            <a:r>
              <a:rPr b="0" i="1" lang="pl-PL" sz="2000" spc="-1" strike="noStrike">
                <a:solidFill>
                  <a:srgbClr val="eaeaea"/>
                </a:solidFill>
                <a:latin typeface="Arial"/>
              </a:rPr>
              <a:t> stosowane będzie także w odniesieniu do zwierzą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pl-PL" sz="2000" spc="-1" strike="noStrike">
                <a:solidFill>
                  <a:srgbClr val="eaeaea"/>
                </a:solidFill>
                <a:latin typeface="Arial"/>
              </a:rPr>
              <a:t>6.</a:t>
            </a:r>
            <a:r>
              <a:rPr b="1" i="1" lang="pl-PL" sz="2000" spc="-1" strike="noStrike">
                <a:solidFill>
                  <a:srgbClr val="ffffcc"/>
                </a:solidFill>
                <a:latin typeface="Arial"/>
              </a:rPr>
              <a:t> Walka płci : życie seksualne zwierząt / John Sparks. - Warszawa, 2001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Zwierzęta – psychologia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Życie seksualne – zoologia</a:t>
            </a:r>
            <a:r>
              <a:rPr b="0" lang="pl-PL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08:51:51Z</dcterms:created>
  <dc:creator>m.witkowska</dc:creator>
  <dc:description/>
  <dc:language>en-US</dc:language>
  <cp:lastModifiedBy>a.stolarczyk</cp:lastModifiedBy>
  <dcterms:modified xsi:type="dcterms:W3CDTF">2008-06-13T13:14:19Z</dcterms:modified>
  <cp:revision>178</cp:revision>
  <dc:subject/>
  <dc:title> </dc:title>
</cp:coreProperties>
</file>