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B3F-5226-42B3-92BE-9A96A70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3F2-AC9E-4DF3-A0FC-2237D2A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A83-26BC-477F-8C08-AA080906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070-A232-4E34-9F13-916011D4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AA38-3EE7-43B0-B50C-796FA6F8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0CC-53DD-4BCB-B966-A8605F50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6A86-5822-4B03-837F-07CBEE2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247C-50DB-4CEC-A49D-C0046EB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D9B-E19B-46B9-B5C2-CC1F191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A595-2360-41F8-8951-3B2A23E6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8E53-7919-49FA-B749-CABB1DF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A17-9070-46CB-9911-201B16A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748-FDF1-49BF-877B-375E5F2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98A-25DC-4C8A-9BFE-307EBCA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7BC1-C742-42D9-ACAC-2D6021D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3E71-6DD9-402A-A7E3-36D2A7E5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1CB-58C6-456C-9C1C-EF7B91CE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C0D-567D-4E06-81A4-2F93EA1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2A6-176F-4009-9780-A4CA974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CC2-697C-4A1F-8A97-2225D2A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EB3-9FD1-463C-B09B-CA7A6E2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3BF-AAC8-45B6-A507-44C6971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2D9-0C5A-43B9-AA89-C97FD9B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7D0-F38D-47C1-908E-FCADBB7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88EE-3609-40CC-92D4-92B22CCD2CDC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AA9-F53C-4679-9291-9712FE08D905}" type="slidenum">
              <a:rPr b="0" lang="pl-PL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Adama Łysakowskiego metodyka katalogu przedmiotowego a dzisiejszy rozwój JHP BN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da Klenc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blioteka Narodo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 geograficzne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znaczają narodowo-terytorialne nacechowanie przedmiotu. Są więc wtedy potrzeb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y temat jest opracowany z wyraźnym ograniczeniem geograficznym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ądź to w tym sensie, że podkreśla się twórczy wkład poszczególnego narodu do jakiejś powszechnej dziedziny lub prądu kulturalneg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o chodzi o zastosowanie urządzeń organizacyjnych i technicznych w danym kra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ądź wreszcie podkreślona jest w dziele lokalizacja przedmiotu na oznaczonym obszarz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 geograficzne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zwy państw współcześnie istniejących i ważniejszych państw już tylko history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zwy krajów odrębnych etnicznie i krajów kolonial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went. nazwy ludów (gdy brak nazwy terytorialne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zwy części świata i wielkich terytori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cechowania geograficzne szczegółowsze (prowincje, dzielnice, miasta) są zawsze uogólniane do nazw wymienionych kategorii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 chronologiczne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kazują okoliczności czasu, w którym przedmiot się przejawiał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rażamy w postaci rzymskich cyfr stuleci. Do nich uogólnia się wszystkie daty roczne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ska – historia – XVI-XVII 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wo karne – Włochy – XX 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pracowaniach historycznych bardzo zasobnych tematów stosować można wyjątkowo szczegółowsze określniki chronologiczne w postaci dat rocznych pewnego okr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eje Księstwa Warszawskiego = Polska- historia – 1807-1815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eje Królestwa Kongresowego = Polska – historia – 1815-1830 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Trwałe związki pojęć równorzędnych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związek przedmiotu głównego i przynależnej doń własności jest trwały […] tematem karty opisowej staje się własność, przy niej przedmiot główny przybiera postać określnika i otrzymuje odsyłacz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wyborze tematu […] rozstrzyga wzgląd na rzeczową koncentrację zagadnień”, wybiera się to z pojęć, które „znajduje w katalogu rzeczowo bliższe sąsiedztwo, tworzy ciekawszą grupę, przez czytelnika poszukiwaną i oczekiwaną, np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tekarstwo wojskowe nie:  Wojsko – bibliotekarstw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ęśnie powiek                 nie:   Powieki - mięśnie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ęśnie ramienia              nie: Ramię -mięśn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 klasowych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obok nazwy przedmiotu istnieje nazwa dziedziny bez wyraźnego ujęcia specjalnego, oznaczająca tylko wszechstronną lub ogólnikowa „teorię przedmiotu” – obie nazw sa zamienne i należy obrać wyraz bardziej skupiający, utarty, krótsz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Petrografia ale: Skał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Hipologia ale: Ko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Entomologia ale: Ow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Atomistyka ale: A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 klasowych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kać zwłaszcza należy sztucznych nowotworów oraz nazw klasowych utworzonych od imion własnych, ja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riologia, Egipt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Chrystologia ale: Jezus Chrys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: Bergsonizm ale: Bergson Hen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talogowane dzieło ujmuje jako przedmiot taka dziedzinę, zamiast której przyjęto temat (czysto) przedmiotowy – należy dla uniknięcia niejasności w tych przypadkach dopełnić go określnikiem – teoria, - nauka, -technika lub nazwą szczegółowej nau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kunabuły – nauka – his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ady – zoologia – zjaz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nazw grup osobowych do tematów klasowych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bliotekarze = Bibliotekar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arze = Malar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yści  = Sztu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karze = Medycy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ychowawcy = Wychowa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ychowankowie = Wychowa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zytelnicy = Czytelnic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ęźniowie = Więziennic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do tematów klasowych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kowanie, Składanie = Drukars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zenie = Lecznic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kolenie = Szkolnic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róże = Podróżnic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oty budowlane = Budownic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nament = Zdobnic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elizna = Bieliźniars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fty = Hafciars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ytwory mleczarskie = Mleczars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nazw firmowych, fabrycznych, odmian gatunkowych, jednostkowych egzemplarzy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ogą być tematami nazwy […] seryjne, skrótowe, jak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i firmowe, typy fabryczne, modele (np. Polski Fiat, Chevrol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iany hodowlane zwierząt i roślin (np. Foksterier, Seter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robów technicznych i przemysłowych (maszyny, aparaty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bów, orderów, walu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stkowych egzemplarzy jakiegoś gatunku czy typu: gwiazd, okrętów, samolotów (np.. RWD 8, Dar Pomorz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tych nazw nie przewidziano nawet odsyłaczy całkowity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pojęć przeciwnych i sprzecznych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tem należy obrać wyraz pozytywny (krótszy, pojemniejsz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poczytalność zob. Poczytalnoś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posłuszeństwo zob. Posłuszeń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ganizacja zob. Organiza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terminizm zob. Determiniz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yklerykalizm zob. Klerykaliz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rewolucja zob. Rewolu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łówne założenia metodyki katalogu przedmiotowego Łysakow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rontacja z obecną praktyką JHP B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nioski na przyszłość: co dalej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 etnicznych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wy grup osobowych etnicznych, regionalnych i topograficznych: szczepów, narodów i ludów, mieszkańców oznaczonych terytoriów większych i mniejszych […] redukuje się do nazwy terytorium, miejscowości, która dana grupa zamieszkuj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cy = Polska – ludnoś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jczycy = Europa – ludnoś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zurzy = Mazury – ludnoś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lińczycy = Berlin – ludnoś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suje się nazwy własne jedynie tych grup, które nie są związane z wyraźnie określonym terytoriu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towie, Cyganie, Murzyni, Tatarzy, Żyd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Wyszczególnianie a redukcja – podstawowa sprzeczność w metodyce Łysakowskiego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ada wyszczególniania wszelkich tematów stoi w sprzeczności z szerokim dopuszczeniem redukcji tema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dane redukcji kategorie tematów nie wyrażają wprost przedmiotu dokumentu, są w znacznym stopniu uogóln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wielu przypadkach nie przewiduje nawet odsyłaczy całkowitych od adekwatnych wyraże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Metodyka Łysakowskiego </a:t>
            </a:r>
            <a:br>
              <a:rPr sz="3200"/>
            </a:b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a obecna praktyka JHP BN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yszczególnianie tematów,  uogólnianie określnik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niki geograficzne i chronologicz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t jednowyrazowy vs wielowyrazow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ja tema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Wyszczególnianie tematów,  uogólnianie określników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ada wyszczególniania tematów, doboru tematów adekwatnych do przedmiotu dokumentu, jest zasadą obowiązując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ada uogólniania określników została rozluźni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al stosuje się uogólniające określniki rzeczowe (klasowe) np.: socjologia, psychologia, lec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: wprowadzono wiele określników wyszczególniających, np.: jakość życia, psychoterapia, pediatria, choroby zawodowe, uprawa pod osłonami, obróbka laserow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Tematy wielowyrazowe 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 ograniczeń dla wprowadzania tematów wielowyraz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unkowe zawieszenie wykonywania k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tek od czynności cywilnopraw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us liściozwoju ziemnia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ecko w wieku przedszkolny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ęściowe odejście od zasady unikania terminu  wielowyrazowego, o ile przedmiot można wyrazić za pomocą dostępnych tematów i określnikó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eczność przeglądu i uporządkowania słownict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zyny – przemysł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zemysł maszynow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: Sen – fizj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łodociani przestępcy – psych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s policyjny - żywi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owych do czysto przedmiot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.: Entomologi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w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 jest już stosowana w JHP B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omologia – instytu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ady – at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z wyraźnym rozgraniczeniem stosowania kojarzonych tema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w grup osobowych do tematów klas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.: Bibliotekarz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bliotekarstw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 jest już stosowana w JHP B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tkie kategorie nazw grup osobowych są wprowadzane do zasobu słownictwa, np.: Budowniczowie instrumentów muzycznych, Tancerze, Cukrzycy, Tłoczarze w met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zw dziedzin działalności, wytworów do tematów klasow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ciowe odejście, brak konsekwen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różnictwo, Kucharstwo, Hafciarstw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: Roboty podłogowe, Leczenie, Szpit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zw firmowych, fabrycznych, odmian gatunkowych, jednostkowych egzemplarz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ciowe odejście, brak konsekwen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wy typów samolotów, marek samochodów, rasy i odmi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: nazwy firmowe i fabryczne zwykle uogólni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Redukcja tematów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ęć przeciwnych i sprze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konsekwencji, ale częściej są rozdzie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zm i indeterminizm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rykalizm, Antyklerykaliz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erpliwość, Niecierpliwość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w etnicznych do nazwy zamieszkiwanego terytor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ada utrzym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jątek: nazwy stosowane dla części grup etnicznych pozostających poza swym pierwotnym terytorium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. Polacy za granicą, Czesi za granic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: geograficzne i chronologiczne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ada uogólniania utrzym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niki geograficzne – dopuszczenie nazw akwenów oraz wybranych nazw terytoriów mniejszych niż państw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ntyk, Bałtyk, Śląsk, Tybet (Chin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niki chronologiczne – wprowadzenie grupy szczegółowych określników dla 20 i 21 w. oraz dopuszczenie użycia dat rocznych po pewnych kategoriach temat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-1939 r., 1933-1945 r., od 2001 r., stan na 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Konsekwencje uogólniania określników rzeczowych i geograficznych </a:t>
            </a:r>
            <a:r>
              <a:rPr b="0" lang="en-US" sz="3200" spc="-1" strike="noStrike">
                <a:solidFill>
                  <a:srgbClr val="515f7b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 opis wielokrotny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„skupienia tematyczne” są jeszcze potrzebne? Jaka jest wartość takich punktów dostęp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kacja nt. zamków w Małopols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łopolska – budownictw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ki i pałace - Pol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kacja nt. temat szpitali warszawskic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szawa – służba zdrow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pitale – Pol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kacja nt. aspiracji życiowych student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ci – socj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iracje – Pol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15f7b"/>
                </a:solidFill>
                <a:latin typeface="Arial"/>
              </a:rPr>
              <a:t>Zasada główna: wyszczególnianie</a:t>
            </a:r>
            <a:r>
              <a:rPr b="0" lang="pl-PL" sz="36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alog przedmiotowy stosuje wyszczególniającą wykładnię tematów, tzn. podaje je zawsze zgodnie z zakresem dzieł, szczegółowszych albo ogólniejsz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jważniejsze pojęcia stają się tematam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jęcia drugorzędne są określni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owiązuje zasada wyszczególni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elkich tematów […]; uogólnia się zaś większość określników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 chronologiczne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jwłaściwsze w systemach zautomatyzowanych wydaje się stosowanie określników wyrażonych pełną datą roczną, nie wiek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w.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401-1500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-19 w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701-19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kreślników wprowadzonych przez przyimek „od” lub „d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1989 r.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989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12 w.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1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 chronologiczne – jakie możliwości?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niki adekwatne do zakresu chronologicznego dokument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08-19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4-19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1-194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opisania zasięgu chronologicznego w polu 648 - Subject Added Entry-Chronological 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kodowania lokalizacji w czasie w MARC2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dajność systemów biblioteczny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rial"/>
              </a:rPr>
              <a:t>Łysakowski a dzisiejszy JHP BN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ada wyszczególniania – podstawowy walor metodyki Łysakowskiego pozostaje niezmiennie fundamentalną zasadą JHP BN, podobnie jak większości współczesnych języków informacyjno-wyszukiwawcz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łe założenia metodycz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ądź już zostały zarzucon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ądź są kwestionowane, wymagają głębokiej analiz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rial"/>
              </a:rPr>
              <a:t>Główne problemy 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kcja tematów etniczny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gólniający charakter określnikó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kreślniki geograficz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kreślniki chronologicz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ka katalogu przedmiotowego opracowana przez Adama Łysakowskiego nadal jest ważnym punktem odniesienia dla polskich języków informacyjno-wyszukiwawcz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t fundamentem JHP BN, choć w najbliższej przyszłości będzie się zapewne coraz bardziej od niej oddala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Wybór tematu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atem jest nazwa przedmiotu lub przedmiotów, o których mówi dzieło […] niekiedy tematem staje się dziedzina czyli klasa, jako zespół przedmiotów w oznaczonym ujęciu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unek 1: posiadanie osobnej jednostki katalogowe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unek 2: posiadanie osobnej prawidłowej nazwy polskie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kikolwiek przedmiot spełnia obydwa te warunki, staje się tematem, choćby był najniższy w systematyce logicznej pojęć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Temat jednowyrazowy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tem jest z reguły jeden wyraz, a mianowicie rzeczownik, zawsze w mianowniku, liczby pojedynczej lub mnog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ny rzeczownik staje w tej liczbie, w której jest stale lub częściej używany, np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łoto  Krew Sprawiedliwość Wyobraźnia Gruźlica Młodzież Humanizm Nauczanie Botanika (tematy klasowe zawsze w liczbie pojedyncze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paty Drożdże Oczy Szereg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ach wątpliwych stosuje się raczej liczbę pojedynczą (nazwa rodzajow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Znaczenie wyrazu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ka się [..] wyrazów „mglistych”, nieprecyzyjnych, o mętnym znaczeniu, nie używa się także wyrazów w znaczeniu przenośny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rzucamy takie ogólnikowe wyrazy, jak: Sprawa.., Kwestia…, Istota.., Ide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wa polska = Polska – publicysty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estia wschodnia = Wschód – polityk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Tematy wielowyrazowe złożone z rzeczowników i z innych części mowy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ą rzadziej, tylko wówczas, gdy są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py wyrazów, które dopiero razem stanowią znak językowy jednego poję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orzenie świat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zęsienie ziem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tka piersio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ź królowej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polite rusz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jmuje się ograniczoną liczbę określników ogólnych (nazwy znaczniejszych klas i form), przeto  pojęcia klasowe i formalne niższego rzędu, a także własności przedmiotu podlegają uogólnieniu do pojęć przyjętych w słownictwie określników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reślnikami klasowymi są nazwy dziedzin życia kulturalnego i gospodarczego (nazwy głównych nauk z pominięciem podrzędnych dyscyplin oraz gałęz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ócz nich występują inne rzeczowe określniki ogólne dla zaznaczenia odrębnych okoliczności przejawiania się przedmio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ęcia szczegółowsze, które zajmują pozycje uogólnionych określników, mogą zyskać dodatkowy opis wielokrotn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rial"/>
              </a:rPr>
              <a:t>określniki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tem staje się całość przedmiotowa, a własności – nieraz w postaci przeobrażonej – sa określnikami. Wyszczególnianie w katalogu przedmiotowym nie idzie więc tak daleko, by w złożonych wyrażeniach, nazywających przedmiot i własność, wysuwać na pierwsze miejsce […] odróżniający szczegół; przeciwnie obowiązuje zasada skupiania całości przedmiotowej, jako członu utożsamiająceg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: Koła parowozów ale: Parowozy – budo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 Leczenie ospy ale: Ospa – lecznictw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: Organizacja pracy ale: Praca – organizac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: Teoria prawdopodobieństwa ale: Prawdopodobieństw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9:42:36Z</dcterms:created>
  <dc:creator>Klenczon</dc:creator>
  <dc:description/>
  <dc:language>en-US</dc:language>
  <cp:lastModifiedBy>a.stolarczyk</cp:lastModifiedBy>
  <dcterms:modified xsi:type="dcterms:W3CDTF">2008-06-16T13:34:55Z</dcterms:modified>
  <cp:revision>24</cp:revision>
  <dc:subject/>
  <dc:title>Adama Łysakowskiego metodyka katalogu przedmiotowego a dzisiejszy rozwój JHP BN</dc:title>
</cp:coreProperties>
</file>