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C1B-07CE-4249-8546-17930FC8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476-1490-480F-978F-C38BA35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B93-649F-455C-9C49-780F2DE4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6F7-8220-4B33-A96A-6415174D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C8CE-5C7F-4E62-8CC4-93767803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4D2-E1F1-4C4E-B141-1F4AB0A9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D0CD-B830-49AB-B1C0-C437CF1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07B-068A-4F85-BC1B-E4B2DBCC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0BF1-571B-453F-91B5-EDEAC150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704F-59DF-453C-933E-0AA9CA9C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114-922C-4B5D-BD14-66406C0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9B6-A1CC-4ACD-A7D7-EB10CBD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527-C3A8-4377-9AC5-8A960E9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51AC-BA5D-4E2F-AD92-7B69A64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A3E4-EF41-46E5-97CE-92A995AD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4DFE-F943-449E-A245-AEAC0077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6424-41D9-45B5-B1D2-15679BD0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7F40-C57C-415F-B57F-047172CE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6B18-05CF-4343-B842-571ADB57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8B8F-1631-498F-B08D-A0F8ED93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39E9-EF7A-425B-84A5-6656D87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3AEB-92D8-40E8-9DE0-E21BE635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303-DE77-4917-BA2D-4BC9DA0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0E38-49D5-4407-B0D0-76DF64FB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9E0F-DB16-47B1-A0B7-AA0C9B0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4D02-4954-4D09-B766-B52D77B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0F59-2413-4294-AB2B-0A6FFDF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8B2E-A65A-41F9-A97E-6B0A999C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7B01-E30D-4829-A91F-DB198A24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2C3C-F354-4A83-8FD5-A1C0EDD3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B1A3-37EB-4B3D-B014-30C41FE4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89BB-75F7-4690-8D6D-B902C00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64B7-4085-4176-AF84-2A1FBDB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105-8972-4AA2-8EC5-07BB6D4D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584B-EF59-41A3-B7CA-FF34973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9EEE-6AD7-40D9-AF4C-B54EBBB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E6C0-A97C-456E-B5F6-5957F67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FEF8-6C98-4F66-BDA1-C556A48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9DF8-8FC5-41EC-8983-6BBD338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094C-BFA4-48D2-B253-154D961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6EC3-67B4-4300-A104-DF0F780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5D7D-6E3E-4FD4-B126-0117AFFB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C017-650C-4091-88A4-7DA19527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D596-8865-43E3-97DB-2E4ABC7A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819-8EF7-45B4-A5BE-8ED884D7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CA59-D8DB-4382-90C3-F8A3A3FC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CA7D-D4E2-45FE-A876-2390A06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F5E19-1CAC-4FFF-8205-4C3866EF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45DB-7EC7-40DA-8F4C-22986BC7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A0BA-575E-4FAD-80DF-9D59835E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367E-AD3D-4724-B73C-625EC80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C75E-A898-4673-BD08-617B05B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6CE7-1F0F-47BA-8DF5-FE81412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5275-B44C-480D-BF15-AE896082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17DC-042E-4CF7-A267-17400CE3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DF7-8817-4D33-AB52-562FD8F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7720-237C-4DAA-BF3E-66935B68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0FFE-653B-4DD4-A30D-E213EDFD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295B-6899-4633-B57F-838302B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43E33-D0EB-46F1-AF50-23F70CF3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5B68-786B-4BE3-A8EB-FDC3599D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E69DA-0B1D-43C8-91D3-D4FB1022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1A9B-F620-4770-9369-185340B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D3BF-5F08-41C4-BFAB-1F4E6B5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9B7C-8E96-4F3F-8201-D8BB2A3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88355-CA86-4A35-9D26-338178B0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279-0F7F-4730-AB0F-DF29B27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77580-8690-4588-BFAB-31B2D57C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004E-0B19-4812-89FC-8B59F239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9E0BA-B9F8-49D8-8D71-E3AE6FF4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BE3D2-0A58-42C5-BAF7-95647A91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1EC70-9B5A-4988-807C-5D4838C7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5C8D4-9B38-42A9-B802-96DE31D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C9C3D-7DD6-417E-9C87-58F2B9F6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8AE7-54F8-47A0-8288-95C7366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60C2-F288-478A-92A2-A77783A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2630-96F8-4F83-AA44-0537264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5AF-124F-437F-A48D-AD3AD4C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5F85-995C-4B0C-8824-9C12E85E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CEDD5-B67C-40EF-AECD-2318B468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A6846-C6A0-4DBA-A456-627FF85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0268-CB93-4CDE-B062-CD3F8A97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70C0D-A5F6-4DDF-A405-3D7D6E73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566C-2B31-4237-B23E-94C30992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2D5A2-295F-43DC-909C-0C4B6E0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C8DB7-C30B-497A-AAA1-41DB418D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691F-4E26-4507-AD19-026B40A9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B9D6E-0DD1-4827-8EAB-2169C52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D3A-8445-40B1-9411-A789FA5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B7E32-6E3C-4026-9031-737945A5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B8D4-A6E7-4DBA-8B1E-47BAA597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A99F5-1E08-4D32-86EC-2F17522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5CF41-0074-4B67-BA46-05B0A74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5354C-DA46-4848-8F3B-C3DB74C7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E2E0-7EA4-4B3A-9AF2-098B6F43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A289E-32AD-4AD8-8439-07D561AE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144E-1412-4B0E-8BA0-2C688D9FFDA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7A1-11B9-4096-9974-7AD26A79584C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6E76-343F-4997-8B3C-522687CC57DF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2763-ECBA-455A-AC7B-A72F42951507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834-666C-4CEC-8540-7F0B2061DE0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9374-CC29-45C5-BC15-9A45BDEB795F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3DA5-22B8-4D0B-BD13-60FE41BF094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369-8C69-4AC6-9102-A52BC8DC2F13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mak.bn.org.pl/cgi-bin/makwww.exe?BM=19&amp;IM=01&amp;TX=Dziecko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285840" y="50040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ofia Zarach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0" y="18651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osow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ęzyka Haseł Przedmiotowych Biblioteki Narod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racowywaniu rzeczowym  publikacji z dziedziny teat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 Bibliotece Publicznej m. st. Warszaw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42920" y="714240"/>
          <a:ext cx="8643960" cy="4292640"/>
        </p:xfrm>
        <a:graphic>
          <a:graphicData uri="http://schemas.openxmlformats.org/drawingml/2006/table">
            <a:tbl>
              <a:tblPr/>
              <a:tblGrid>
                <a:gridCol w="892080"/>
                <a:gridCol w="7751880"/>
              </a:tblGrid>
              <a:tr h="1416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Ciało widzialne : |b wykłady otwarte / |c [red. Marcin Rochowski] ; Teatr Narodow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30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TN, |c 200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28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248, [4] s. : |b il. ; |c 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417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38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357120" y="714240"/>
          <a:ext cx="8263080" cy="4605480"/>
        </p:xfrm>
        <a:graphic>
          <a:graphicData uri="http://schemas.openxmlformats.org/drawingml/2006/table">
            <a:tbl>
              <a:tblPr/>
              <a:tblGrid>
                <a:gridCol w="1000080"/>
                <a:gridCol w="7263000"/>
              </a:tblGrid>
              <a:tr h="1071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Ciało mówiące : |b "Iwona, księżniczka Burgunda" Witolda Gombrowicza / |c Monika Żółkoś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42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Słowo/Obraz Terytoria, |c cop. 200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81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ombrowicz, Witold |d (1904-1969). |t Iwona, księżniczka Burgunda |x inscenizac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904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historia |y od 1944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905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Inscenizacja |z Polska |y od 1989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214200" y="1285920"/>
          <a:ext cx="8929800" cy="4214880"/>
        </p:xfrm>
        <a:graphic>
          <a:graphicData uri="http://schemas.openxmlformats.org/drawingml/2006/table">
            <a:tbl>
              <a:tblPr/>
              <a:tblGrid>
                <a:gridCol w="1059120"/>
                <a:gridCol w="7870680"/>
              </a:tblGrid>
              <a:tr h="2442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Od dokumentacji do interpretacji, od interpretacji do teorii : |b wybór materiałów z sesji Komitetu Nauk o Sztuce Polskiej Akademii Nauk : Nieborów 9-11.10.1991 r. / |c pod red. Danuty Kuźnickiej i Hanny Samsonowic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84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IS PAN, |c 199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87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 |y 20 w.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38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42920" y="1143000"/>
          <a:ext cx="8786880" cy="3855960"/>
        </p:xfrm>
        <a:graphic>
          <a:graphicData uri="http://schemas.openxmlformats.org/drawingml/2006/table">
            <a:tbl>
              <a:tblPr/>
              <a:tblGrid>
                <a:gridCol w="1143000"/>
                <a:gridCol w="7643880"/>
              </a:tblGrid>
              <a:tr h="1633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Composing ourselves : |b the little theatre movement and the American audience / |c Dorothy Chansk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385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Carbondale : |b Southern Illinois University Press, |c cop. 20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36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amerykański |x historia |y 1901-1939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0" y="1584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amatorski amerykański – historia – 1901-193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studencki amerykański – historia – 1901-193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b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ttle Theatre (ru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42920" y="1143000"/>
          <a:ext cx="8858160" cy="3929040"/>
        </p:xfrm>
        <a:graphic>
          <a:graphicData uri="http://schemas.openxmlformats.org/drawingml/2006/table">
            <a:tbl>
              <a:tblPr/>
              <a:tblGrid>
                <a:gridCol w="857160"/>
                <a:gridCol w="8001000"/>
              </a:tblGrid>
              <a:tr h="1171440"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sing ourselves 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Little Theatre movement and the American audience 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c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rothy Chansk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3320"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dale 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rn Illinois University Press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c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0120"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tle theater movemen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z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St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ater audienc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|z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St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357120" y="1000080"/>
          <a:ext cx="8643960" cy="4214880"/>
        </p:xfrm>
        <a:graphic>
          <a:graphicData uri="http://schemas.openxmlformats.org/drawingml/2006/table">
            <a:tbl>
              <a:tblPr/>
              <a:tblGrid>
                <a:gridCol w="928800"/>
                <a:gridCol w="7715160"/>
              </a:tblGrid>
              <a:tr h="1000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merican avant-garde theatre : |b a history / |c Arnold Arons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928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ondon ; |a New York : |b Routledge, |c 200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43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amerykański |x historia |y 1945-1989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43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amerykański |x historia |y 1945-1989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71280" y="623880"/>
          <a:ext cx="8929800" cy="4867200"/>
        </p:xfrm>
        <a:graphic>
          <a:graphicData uri="http://schemas.openxmlformats.org/drawingml/2006/table">
            <a:tbl>
              <a:tblPr/>
              <a:tblGrid>
                <a:gridCol w="1398600"/>
                <a:gridCol w="7531200"/>
              </a:tblGrid>
              <a:tr h="1285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 kręgu teatru monumentalnego / |c pod red. Lidii Kuchtówny i Jana Ciechowicza ; Instytut Sztuki Polskiej Akademii Nau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IS PAN, |c 200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963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historia |y 19-20 w.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inscenizacje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polski |x historia |y 20 w.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14200" y="480960"/>
          <a:ext cx="8715600" cy="5162760"/>
        </p:xfrm>
        <a:graphic>
          <a:graphicData uri="http://schemas.openxmlformats.org/drawingml/2006/table">
            <a:tbl>
              <a:tblPr/>
              <a:tblGrid>
                <a:gridCol w="1176480"/>
                <a:gridCol w="7539120"/>
              </a:tblGrid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he rainbow of desire : |b the Boal method of theatre and therapy / |c Augusto Boal ; transl. by Adrian Jacks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ondon ; |a New York : |b Routledge - Taylor &amp; Francis Group, |c 200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4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Boal, Augusto |d (1931- ) |x twórczoś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ktorstwo |v ćwiczenia i zadan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ktorstwo |x technika |x metody |y 20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oterap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428760" y="714240"/>
          <a:ext cx="8501040" cy="4722840"/>
        </p:xfrm>
        <a:graphic>
          <a:graphicData uri="http://schemas.openxmlformats.org/drawingml/2006/table">
            <a:tbl>
              <a:tblPr/>
              <a:tblGrid>
                <a:gridCol w="1484280"/>
                <a:gridCol w="7016760"/>
              </a:tblGrid>
              <a:tr h="928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e langage théâtral d'Antonim Artaud / |c Grażyna Stara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atowice : |b Wydaw. UŚ, |c 200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35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rtaud, Antonin |d (1896-1948) |x twórczoś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35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ktorstwo |x teoria |x historia |z Francj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942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 |x historia |z Francj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285840" y="15174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i Lanfang – mistrz opery pekińskiej/ pod red. Ewy Guderian-Czaplińskiej i Grzegorza Ziółkowskiego. – Wrocław: Ośrodek Badań Twórczości Jerzego Grotowskiego i Poszukiwań Teatralno-Kulturowych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00 19 a Mei, Lanfang/ d(1894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50   9 a Opera/ x historia/ z Chiny/ y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51   9 a Pekin (Chiny)/ x muzyka/ y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357120" y="1655280"/>
            <a:ext cx="864396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45 10 Teatr i jego sobowtór /|c Antonin Artaud;przekł. [z fr.]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wstęp Jan Błoński ; noty J. Błoński i Konstanty Puzy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0 19 Artaud, Antonin|d(1896-194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50  9 Tea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285840" y="642960"/>
          <a:ext cx="8643960" cy="4643280"/>
        </p:xfrm>
        <a:graphic>
          <a:graphicData uri="http://schemas.openxmlformats.org/drawingml/2006/table">
            <a:tbl>
              <a:tblPr/>
              <a:tblGrid>
                <a:gridCol w="906480"/>
                <a:gridCol w="7737480"/>
              </a:tblGrid>
              <a:tr h="933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Śmiertelnicy : |b Teatr Absurdu Samuela Becketta w przestrzeni Misterium Mortis / |c Dariusz Piotr Klimcza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564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rylogia tanatyczna Teatru Absurdu / Dariusz Piotr Klimczak ; |v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Beckett, Samuel |d (1906-1989) |x twórcz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francuski |x tematyka |y 20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irlandzki |x tematyka |y 20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Śmierć |x literatura francu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Śmierć |x literatura irland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428760" y="1518480"/>
            <a:ext cx="871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U  Teatr absu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U  Dramat absu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S    Dr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K   Tea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K   Surrealiz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428760" y="428760"/>
          <a:ext cx="8715240" cy="5332320"/>
        </p:xfrm>
        <a:graphic>
          <a:graphicData uri="http://schemas.openxmlformats.org/drawingml/2006/table">
            <a:tbl>
              <a:tblPr/>
              <a:tblGrid>
                <a:gridCol w="928440"/>
                <a:gridCol w="7786800"/>
              </a:tblGrid>
              <a:tr h="1213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heatre, sacrifice, ritual : |b exploring forms of political theatre / |c Erika Fischer-Lich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ondon ; |a New York : |b Routledge - Taylor &amp; Francis Group, |c 200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olityka |x a tea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idowiska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Zgromadzenia i imprezy masowe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357120" y="1214280"/>
          <a:ext cx="8786880" cy="3733920"/>
        </p:xfrm>
        <a:graphic>
          <a:graphicData uri="http://schemas.openxmlformats.org/drawingml/2006/table">
            <a:tbl>
              <a:tblPr/>
              <a:tblGrid>
                <a:gridCol w="914400"/>
                <a:gridCol w="7872480"/>
              </a:tblGrid>
              <a:tr h="1116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he theater is in the street : |b politics and performance in sixties America / |c Bradford D. Mart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mherst ; |a Boston : |b University of Massachusetts Press, |c cop. 20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a polityka |z Stany Zjednoc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amerykański |x historia |y 20 w. |v szk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0" y="571680"/>
            <a:ext cx="914400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45 02 V Międzynarodowy Festiwal Teatru Ulicznego - Jelenia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óra /|c[oprac. red. Henryk Szoka i Andrzej Grzelak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AutoNum type="arabicPlain" startAt="2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elenia Góra :|b Wojewódzki Dom Kultury : nakł. Teatru im.             C. Norwida,|c1988|e(Wroc. :|f RSW"PKR"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11 29 Międzynarodowy Festiwal Teatru Ulicznego |n (5 ;|d1987 ;       |cJelenia Gó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9 Teatr|x konkursy i festiwale|zPolska|y1980-1989 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9 Widowiska uliczne|x konkursy i festiwale|zPolska|y1980-1989 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51  9 Jelenia Góra (woj. dolnośląskie)|x teatr |x konkursy i        festiwale|y1980-1989 r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500040" y="144396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 uli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widowiska ul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 teatr agitacyj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 teatr polity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 teatr enwironmenta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642960" y="1678320"/>
            <a:ext cx="56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gue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teatr partyzanc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 teatr uli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42920" y="1000080"/>
          <a:ext cx="8858160" cy="4503960"/>
        </p:xfrm>
        <a:graphic>
          <a:graphicData uri="http://schemas.openxmlformats.org/drawingml/2006/table">
            <a:tbl>
              <a:tblPr/>
              <a:tblGrid>
                <a:gridCol w="1071360"/>
                <a:gridCol w="778680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Semiotyka kultury ludowej / |c Piotr Bogatyriew ; wstęp, wybór i oprac. Maria Renata Mayenow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yd. 2 poszer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Państ. Instytut Wydawniczy, |c 197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Etnografia |x zagadni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amatorski cze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amatorski słowac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85840" y="1285920"/>
          <a:ext cx="8643960" cy="3733920"/>
        </p:xfrm>
        <a:graphic>
          <a:graphicData uri="http://schemas.openxmlformats.org/drawingml/2006/table">
            <a:tbl>
              <a:tblPr/>
              <a:tblGrid>
                <a:gridCol w="1160280"/>
                <a:gridCol w="748368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o popular peruano : |b del precolombino al siglo XX / |c Małgorzata Oleszkiewic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uwiański teatr ludowy od czasów prekolumbijskich do XX wie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CESLA ; |a [s.l.] : |b Instituto Austríaco para América Latina - LAI, |c 199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amatorski peruwiański |x historia |y 16-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214200" y="947160"/>
            <a:ext cx="871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0 19 a Mei, Lanfang/ d(1894-1961)/ t [Moje życie] – tyt.  w wersji oryginal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a Aktorzy/ x biografie/ z Chiny/ y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50 9 a  Aktorstwo/ z Chiny/ y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a  Pamiętniki chńskie/ y 20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6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jeszcze hasła dla Brechta i Stanisławskieg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734040" y="28080"/>
            <a:ext cx="6951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Teatr konwiktow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Teatr szkol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 Teatr dziecięcy i młodzieżowy polski –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 Teatr polski –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Teatr jezuic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Teatr pijar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Teatr franciszka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Teatr kalwinisty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71280" y="357120"/>
          <a:ext cx="8929800" cy="5288040"/>
        </p:xfrm>
        <a:graphic>
          <a:graphicData uri="http://schemas.openxmlformats.org/drawingml/2006/table">
            <a:tbl>
              <a:tblPr/>
              <a:tblGrid>
                <a:gridCol w="1000440"/>
                <a:gridCol w="7929360"/>
              </a:tblGrid>
              <a:tr h="1285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Europejskie związki dawnego teatru szkolnego i europejska wspólnota dawnych kalendarzy / |c red. nauk. Irena Kadulsk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04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Wydaw. Uniwersytetu Gdańskiego, |c 200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03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alendarze |x historia |z Europa |y 15-18 w.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97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x historia |y 17-19 w.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97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węgierski |x historia |y 16-18 w.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71280" y="500040"/>
          <a:ext cx="8501400" cy="5286240"/>
        </p:xfrm>
        <a:graphic>
          <a:graphicData uri="http://schemas.openxmlformats.org/drawingml/2006/table">
            <a:tbl>
              <a:tblPr/>
              <a:tblGrid>
                <a:gridCol w="827280"/>
                <a:gridCol w="7674120"/>
              </a:tblGrid>
              <a:tr h="755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jezuicki XVIII i XIX wieku w Polsce : |b z antologią dramatu / |c wstęp i oprac. Irena Kaduls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388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jezuicki osiemnastego i dziewiętnastego wieku w Pols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2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Wydaw. Uniwersytetu Gdańskiego, |c 1997 |e ([s. l.] : |g "Stefan Lipiński"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5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Jezuici |x kultura |z Polska |y 18-19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5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francuski |y 18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3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y 18-19 w. |v antolo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5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x historia |y 18-19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285840" y="571680"/>
          <a:ext cx="8715240" cy="5162400"/>
        </p:xfrm>
        <a:graphic>
          <a:graphicData uri="http://schemas.openxmlformats.org/drawingml/2006/table">
            <a:tbl>
              <a:tblPr/>
              <a:tblGrid>
                <a:gridCol w="1076400"/>
                <a:gridCol w="7638840"/>
              </a:tblGrid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omedia w polskim teatrze jezuickim XVIII wieku / |c Irena Kadulsk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4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rocław [etc.] : |b Zakład Narodowy im. Ossolińskich, |c 199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Bohomolec, Franciszek |d (1720-178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Jezuici |x kultura |z Polska |y 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omedia |x teoria |x historia |y 16-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omedia polska |x historia |y 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x historia |y 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357120" y="1857240"/>
          <a:ext cx="8572680" cy="3206880"/>
        </p:xfrm>
        <a:graphic>
          <a:graphicData uri="http://schemas.openxmlformats.org/drawingml/2006/table">
            <a:tbl>
              <a:tblPr/>
              <a:tblGrid>
                <a:gridCol w="1371600"/>
                <a:gridCol w="7201080"/>
              </a:tblGrid>
              <a:tr h="1351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he Jesuits II : |b cultures, sciences, and the arts : 1540-1773 / |c ed. by John W. O'Malley [et al.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50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Indek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04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Jezuici |x kultura |v materiały konferencyj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1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14200" y="1428840"/>
          <a:ext cx="8786880" cy="4118040"/>
        </p:xfrm>
        <a:graphic>
          <a:graphicData uri="http://schemas.openxmlformats.org/drawingml/2006/table">
            <a:tbl>
              <a:tblPr/>
              <a:tblGrid>
                <a:gridCol w="1113120"/>
                <a:gridCol w="7673760"/>
              </a:tblGrid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Na scenach jezuickich w dawnej Polsce : |b (rodzimość i europejskość) / |c Jan Okoń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360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Wydawnictwo DiG : |b Ośrodek Badań nad Tradycją Antyczną w Polsce i w Europie Środkowowschodniej Uniwersytet Warszawski, |c 200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Jezuici |x kultura |z Polska |y 16-17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historia |y 16-17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x historia |y 16-17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14200" y="857160"/>
          <a:ext cx="8786880" cy="4473720"/>
        </p:xfrm>
        <a:graphic>
          <a:graphicData uri="http://schemas.openxmlformats.org/drawingml/2006/table">
            <a:tbl>
              <a:tblPr/>
              <a:tblGrid>
                <a:gridCol w="914400"/>
                <a:gridCol w="7872480"/>
              </a:tblGrid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zgardzony wielogłos : |b kultura teatralna czasów saskich i jej tradycje / |c Barbara Judkowi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5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oznań : |b Wydawnictwo Naukowe Uniwersytetu im. Adama Mickiewicza, |c 2007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Radziwiłł, Franciszka Urszula |d (1705-1753) |x twórczoś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Jezuici |x kultura |z Polska |y 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historia |y 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polski |x historia |y 18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428760" y="571680"/>
          <a:ext cx="8429400" cy="4906800"/>
        </p:xfrm>
        <a:graphic>
          <a:graphicData uri="http://schemas.openxmlformats.org/drawingml/2006/table">
            <a:tbl>
              <a:tblPr/>
              <a:tblGrid>
                <a:gridCol w="998280"/>
                <a:gridCol w="7431120"/>
              </a:tblGrid>
              <a:tr h="1123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Bibliografia literatury dla dzieci 1945-1960 : |b przekłady, adaptacje / |c oprac. Alina Łasiewicka, Felicja Neuber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4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Stowarzyszenie Bibliotekarzy Polskich, |c 197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iteratura dziecięca |y 1945-1989 r. |v bibliograf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iteratura dziecięca polska |y 1944-1989 r. |v bibliograf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rzekłady polskie |y 1944-1989 r. |v bibliograf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y 1944-1989 r. |v bibliograf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285840" y="714240"/>
          <a:ext cx="8643960" cy="4808520"/>
        </p:xfrm>
        <a:graphic>
          <a:graphicData uri="http://schemas.openxmlformats.org/drawingml/2006/table">
            <a:tbl>
              <a:tblPr/>
              <a:tblGrid>
                <a:gridCol w="954000"/>
                <a:gridCol w="7689960"/>
              </a:tblGrid>
              <a:tr h="1024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Lalek Banialuka : |b 1997-2007 / |c [red. Lucyna Kozień, wpółpr. red. Małgorzata Słonka ; oprac. graf. Michał Kliś]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4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Bielsko-Biała : |b Teatr Lalek Banialuka im. Jerzego Zitzmana, |c 2007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Lalek Banialuka (Bielsko-Biał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4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x historia |y od 1989 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lalek polski |x historia |y od 1989 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1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Bielsko-Biała (woj. śląskie) |x teatr |y od 1989 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85840" y="2143080"/>
          <a:ext cx="8572320" cy="2403360"/>
        </p:xfrm>
        <a:graphic>
          <a:graphicData uri="http://schemas.openxmlformats.org/drawingml/2006/table">
            <a:tbl>
              <a:tblPr/>
              <a:tblGrid>
                <a:gridCol w="869760"/>
                <a:gridCol w="7702560"/>
              </a:tblGrid>
              <a:tr h="1024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Raport o stanie polskiego teatru dla dzieci i młodzieży w latach 1989-2003 / |c red. Zbigniew Rudziński, Juliusz Tyszk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oznań : |b Centrum Sztuki Dziecka w Poznaniu, |c 200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024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dziecięcy i młodzieżowy polski |x historia |y od 1989 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42920" y="1214280"/>
          <a:ext cx="8858160" cy="4357800"/>
        </p:xfrm>
        <a:graphic>
          <a:graphicData uri="http://schemas.openxmlformats.org/drawingml/2006/table">
            <a:tbl>
              <a:tblPr/>
              <a:tblGrid>
                <a:gridCol w="1108080"/>
                <a:gridCol w="7750080"/>
              </a:tblGrid>
              <a:tr h="1268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opular theatres of nineteenth-century France / |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hn McCormic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71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ondon ; |a New York : |b Routledge, |c 200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92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Cenzura |z Francja |y 19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12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francuski |x historia |y 19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12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socjologia |z Francja |y 19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785880" y="1571760"/>
          <a:ext cx="7524720" cy="3448080"/>
        </p:xfrm>
        <a:graphic>
          <a:graphicData uri="http://schemas.openxmlformats.org/drawingml/2006/table">
            <a:tbl>
              <a:tblPr/>
              <a:tblGrid>
                <a:gridCol w="1143000"/>
                <a:gridCol w="6381720"/>
              </a:tblGrid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\a Sztuka dzieck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\w g \a Sztuk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\w g \a Twórczość dzieci i młodzież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\a Gry i zabaw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\w h \a Teatr dziecięcy i młodzieżow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357120" y="857160"/>
          <a:ext cx="8278920" cy="4714920"/>
        </p:xfrm>
        <a:graphic>
          <a:graphicData uri="http://schemas.openxmlformats.org/drawingml/2006/table">
            <a:tbl>
              <a:tblPr/>
              <a:tblGrid>
                <a:gridCol w="1101960"/>
                <a:gridCol w="7176960"/>
              </a:tblGrid>
              <a:tr h="58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 dziecięcy i młodzieżow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8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 młodzieżow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90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 szkol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8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i="1" lang="pl-PL" sz="2400" spc="-1" strike="noStrike" u="sng">
                          <a:solidFill>
                            <a:srgbClr val="ff811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Dziecko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x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8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łodzież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x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90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w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ztuka dziecka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8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w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eatr amatorski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58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w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eatr studencki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428760" y="1143000"/>
          <a:ext cx="8219880" cy="3857760"/>
        </p:xfrm>
        <a:graphic>
          <a:graphicData uri="http://schemas.openxmlformats.org/drawingml/2006/table">
            <a:tbl>
              <a:tblPr/>
              <a:tblGrid>
                <a:gridCol w="1214280"/>
                <a:gridCol w="7005600"/>
              </a:tblGrid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 dla dzieci i młodzież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 dla młodzież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ziecko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x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ltu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w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Film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x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e i gatunk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854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Młodzież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x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ltu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428760" y="785880"/>
          <a:ext cx="8358120" cy="4503600"/>
        </p:xfrm>
        <a:graphic>
          <a:graphicData uri="http://schemas.openxmlformats.org/drawingml/2006/table">
            <a:tbl>
              <a:tblPr/>
              <a:tblGrid>
                <a:gridCol w="1263600"/>
                <a:gridCol w="709452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Chór dramatyczny w poszukiwaniu tożsamości teatralnej / |c Ewa Partyg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raków : |b Księgarnia Akademicka, |c 20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ragedia grecka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ragedia grecka |x recep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europejski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histori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285840" y="1928880"/>
          <a:ext cx="8286840" cy="3002040"/>
        </p:xfrm>
        <a:graphic>
          <a:graphicData uri="http://schemas.openxmlformats.org/drawingml/2006/table">
            <a:tbl>
              <a:tblPr/>
              <a:tblGrid>
                <a:gridCol w="1108080"/>
                <a:gridCol w="717876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realności : |b o iluzji i realności w teatrze współczesnym / |c Artur Du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Słowo/Obraz Terytoria, |c cop. 200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polski |x histori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"/>
          <p:cNvSpPr/>
          <p:nvPr/>
        </p:nvSpPr>
        <p:spPr>
          <a:xfrm>
            <a:off x="357120" y="1870560"/>
            <a:ext cx="7358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ógłby powstać te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 Iluz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Real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 Świat przedstawi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428760" y="1285920"/>
          <a:ext cx="8501040" cy="4259160"/>
        </p:xfrm>
        <a:graphic>
          <a:graphicData uri="http://schemas.openxmlformats.org/drawingml/2006/table">
            <a:tbl>
              <a:tblPr/>
              <a:tblGrid>
                <a:gridCol w="869760"/>
                <a:gridCol w="7631280"/>
              </a:tblGrid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Między niebem a sceną : |b przestrzeń i czas 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ze |c Jerzy Lim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"Słowo/Obraz Terytoria", |c [2002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08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rzestrzeń |x a tea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33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14200" y="1214280"/>
          <a:ext cx="8786880" cy="3753000"/>
        </p:xfrm>
        <a:graphic>
          <a:graphicData uri="http://schemas.openxmlformats.org/drawingml/2006/table">
            <a:tbl>
              <a:tblPr/>
              <a:tblGrid>
                <a:gridCol w="928800"/>
                <a:gridCol w="785808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Między niebem a sceną : |b przestrzeń i czas w teatrze / |c Jerzy Lim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"Słowo/Obraz Terytoria", |c [2002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rzestrzeń |x a tea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428760" y="428760"/>
          <a:ext cx="8501040" cy="5516280"/>
        </p:xfrm>
        <a:graphic>
          <a:graphicData uri="http://schemas.openxmlformats.org/drawingml/2006/table">
            <a:tbl>
              <a:tblPr/>
              <a:tblGrid>
                <a:gridCol w="968400"/>
                <a:gridCol w="7532640"/>
              </a:tblGrid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 sourcebook on naturalist theatre / |c ed. and introd. by Christopher Inn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ondon ; |a New York : |b Routledge, |c 200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Čehov, Anton Pavlovič |d (1860-1904) |x twórczoś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Ibsen, Henrik |d (1828-1906) |x twórczoś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Shaw, George Bernard |d (1856-1950) |x twórczoś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|x historia |y 19-20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Naturalizm |x literatu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y 19-20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142920" y="1643040"/>
          <a:ext cx="8858160" cy="3368520"/>
        </p:xfrm>
        <a:graphic>
          <a:graphicData uri="http://schemas.openxmlformats.org/drawingml/2006/table">
            <a:tbl>
              <a:tblPr/>
              <a:tblGrid>
                <a:gridCol w="1255680"/>
                <a:gridCol w="7602480"/>
              </a:tblGrid>
              <a:tr h="1116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heatre, performance, and the historical avan-garde / |c Günter Berghau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New York : |b Palgrave Macmillan, |c cop. 200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wangarda (lit., szt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214200" y="1654920"/>
            <a:ext cx="842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HP BN brakuje haseł d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francuski – organizacja –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zność teatralna francuska –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bulwarowy francuski –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285840" y="1214280"/>
          <a:ext cx="8643960" cy="4503960"/>
        </p:xfrm>
        <a:graphic>
          <a:graphicData uri="http://schemas.openxmlformats.org/drawingml/2006/table">
            <a:tbl>
              <a:tblPr/>
              <a:tblGrid>
                <a:gridCol w="892080"/>
                <a:gridCol w="775188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forming history : |b theatrical representations of the past in contemporary theatre / |c Freddie Rok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Iowa City : |b University of Iowa Press, |c cop. 200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|x tematyka |y od 1945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Holocaust |x lit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Rewolucja 1789 r. francuska |x lit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y od 1945 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3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500040" y="1071720"/>
          <a:ext cx="8242200" cy="4429080"/>
        </p:xfrm>
        <a:graphic>
          <a:graphicData uri="http://schemas.openxmlformats.org/drawingml/2006/table">
            <a:tbl>
              <a:tblPr/>
              <a:tblGrid>
                <a:gridCol w="1459080"/>
                <a:gridCol w="6783120"/>
              </a:tblGrid>
              <a:tr h="104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 eksperymental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98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 awangardow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104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tr poszukują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  <a:tr h="1347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fe4c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w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 </a:t>
                      </a:r>
                      <a:r>
                        <a:rPr b="0" i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 </a:t>
                      </a:r>
                      <a:r>
                        <a:rPr b="0" lang="pl-PL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eatr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370db"/>
                      </a:solidFill>
                    </a:lnL>
                    <a:lnR w="5760">
                      <a:solidFill>
                        <a:srgbClr val="9370db"/>
                      </a:solidFill>
                    </a:lnR>
                    <a:lnT w="5760">
                      <a:solidFill>
                        <a:srgbClr val="9370db"/>
                      </a:solidFill>
                    </a:lnT>
                    <a:lnB w="5760">
                      <a:solidFill>
                        <a:srgbClr val="9370db"/>
                      </a:solidFill>
                    </a:lnB>
                    <a:solidFill>
                      <a:srgbClr val="faeb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42920" y="2214720"/>
          <a:ext cx="8858160" cy="2617560"/>
        </p:xfrm>
        <a:graphic>
          <a:graphicData uri="http://schemas.openxmlformats.org/drawingml/2006/table">
            <a:tbl>
              <a:tblPr/>
              <a:tblGrid>
                <a:gridCol w="1000080"/>
                <a:gridCol w="7858080"/>
              </a:tblGrid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Experimental theatre : |b from Stanislavsky to Peter Brook / |c James Roose-Eva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London ; |a New York : |b Routledge - Taylor &amp; Francis Group, |c 20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a Teatr eksperymentalny |x histori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3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rostokąt 4"/>
          <p:cNvSpPr/>
          <p:nvPr/>
        </p:nvSpPr>
        <p:spPr>
          <a:xfrm>
            <a:off x="9634320" y="343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428760" y="928800"/>
          <a:ext cx="8429400" cy="4572000"/>
        </p:xfrm>
        <a:graphic>
          <a:graphicData uri="http://schemas.openxmlformats.org/drawingml/2006/table">
            <a:tbl>
              <a:tblPr/>
              <a:tblGrid>
                <a:gridCol w="736560"/>
                <a:gridCol w="7692840"/>
              </a:tblGrid>
              <a:tr h="833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Mity teatru XX wieku : |b od Stanisławskiego do Kantora / |c [red. Dorota Heliasz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238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raków : |b nakładem Uniwersytetu Jagiellońskiego, |c 199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33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Inscenizacja |x historia |y 20 w. |v podręcznik akadem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33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Reżyseria |x historia |y 20 w. |v podręcznik akadem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33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y 20 w. |v podręcznik akadem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3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500040" y="1357200"/>
          <a:ext cx="8358120" cy="4400640"/>
        </p:xfrm>
        <a:graphic>
          <a:graphicData uri="http://schemas.openxmlformats.org/drawingml/2006/table">
            <a:tbl>
              <a:tblPr/>
              <a:tblGrid>
                <a:gridCol w="735120"/>
                <a:gridCol w="7623000"/>
              </a:tblGrid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"Dziady" od Wyspiańskiego do Grzegorzewskiego / |c pod red. Tadeusza Kornasia i Grzegorza Nizioł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raków : |b "Księgarnia Akademicka", |c 199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Mickiewicz, Adam |d (1798-1855). |t Dzi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ramat polski |x historia |y 19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Inscenizacja |x historia |z Polska |y 20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Reżyseria |x historia |z Polska |y 20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polski |x historia |y 20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4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85840" y="1571760"/>
          <a:ext cx="8643960" cy="3771720"/>
        </p:xfrm>
        <a:graphic>
          <a:graphicData uri="http://schemas.openxmlformats.org/drawingml/2006/table">
            <a:tbl>
              <a:tblPr/>
              <a:tblGrid>
                <a:gridCol w="877680"/>
                <a:gridCol w="7766280"/>
              </a:tblGrid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 stronę rytuału : |b od Yeatsa do Węgajt / |c pod red. Małgorzaty Sugie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raków : |b "Księgarnia Akademicka", |c 199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Obrzędy |x zagadni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y 20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polski |x historia |y od 1944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85840" y="2214720"/>
          <a:ext cx="8572320" cy="1885680"/>
        </p:xfrm>
        <a:graphic>
          <a:graphicData uri="http://schemas.openxmlformats.org/drawingml/2006/table">
            <a:tbl>
              <a:tblPr/>
              <a:tblGrid>
                <a:gridCol w="857160"/>
                <a:gridCol w="7715160"/>
              </a:tblGrid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Rytuał a teatr czyli O drogach myślenia / |c Jacek Wachowsk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niezno : |b Gnieźnieńska Oficyna Wydawnicza TUM, |c 200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28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428760" y="1214280"/>
          <a:ext cx="8572320" cy="3854520"/>
        </p:xfrm>
        <a:graphic>
          <a:graphicData uri="http://schemas.openxmlformats.org/drawingml/2006/table">
            <a:tbl>
              <a:tblPr/>
              <a:tblGrid>
                <a:gridCol w="1127160"/>
                <a:gridCol w="7445160"/>
              </a:tblGrid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rzyszłość rytuału / |c Richard Schechner ; przekł. Tomasz Kubikowsk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92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Volumen, |c 2000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ntropologia społeczna |v szk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92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formance |x socjologia |v szk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 |v szk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85840" y="2000160"/>
          <a:ext cx="8643960" cy="2617920"/>
        </p:xfrm>
        <a:graphic>
          <a:graphicData uri="http://schemas.openxmlformats.org/drawingml/2006/table">
            <a:tbl>
              <a:tblPr/>
              <a:tblGrid>
                <a:gridCol w="968400"/>
                <a:gridCol w="7675560"/>
              </a:tblGrid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eneza teatru w świetle antropologii kulturowej / |c Marta Stein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16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rocław : |b Wydaw. Uniwersytetu Wrocławskiego, |c 200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antropologia społecz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214200" y="1214280"/>
          <a:ext cx="8786880" cy="4137120"/>
        </p:xfrm>
        <a:graphic>
          <a:graphicData uri="http://schemas.openxmlformats.org/drawingml/2006/table">
            <a:tbl>
              <a:tblPr/>
              <a:tblGrid>
                <a:gridCol w="892440"/>
                <a:gridCol w="7894440"/>
              </a:tblGrid>
              <a:tr h="384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Dziady - teatr święta zmarłych / |c Leszek Kolankiewic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Gdańsk : |b "Słowo/Obraz Terytoria", |c cop. 199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Antropologia społeczna |x zagadnienia |v szk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rytyka teatralna polska |y 20 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Obrzędy |x historia |v szk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50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v szk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214200" y="17265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Teatr bulwar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Tea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TK Teatr mieszczański] – gdyby istniał taki te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TK Teatr popularny] – gdyby istniał taki te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214200" y="2286000"/>
          <a:ext cx="8643960" cy="1920960"/>
        </p:xfrm>
        <a:graphic>
          <a:graphicData uri="http://schemas.openxmlformats.org/drawingml/2006/table">
            <a:tbl>
              <a:tblPr/>
              <a:tblGrid>
                <a:gridCol w="984240"/>
                <a:gridCol w="7659720"/>
              </a:tblGrid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formans / |c Marvin Carlson ; przeł.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yta Kubikowska ; red. nauk. wyd. pol. Tomasz Kubikowsk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384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arszawa : |b Wydawnictwo Naukowe PWN, |c 200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85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form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28760" y="1285920"/>
          <a:ext cx="8501040" cy="4191120"/>
        </p:xfrm>
        <a:graphic>
          <a:graphicData uri="http://schemas.openxmlformats.org/drawingml/2006/table">
            <a:tbl>
              <a:tblPr/>
              <a:tblGrid>
                <a:gridCol w="730080"/>
                <a:gridCol w="7770960"/>
              </a:tblGrid>
              <a:tr h="628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formatyka : |b wstęp / |c Richard Schechner ; przekł.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sz Kubikowski ; red. przekł. Marcin Rochowsk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rocław : |b Ośrodek Badań Twórczości Jerzego Grotowskiego i Poszukiwań Teatralno-Kulturowych, |c 200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714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Obrzędy |x his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57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Performance |x his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833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Widowiska |x his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214200" y="875520"/>
            <a:ext cx="86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d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 Publiczność teatr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  Publiczność film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S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z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TK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uczestnict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 – gdyby istniał taki te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TK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tr enwironmental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 – gdyby istniał taki te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214200" y="172656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z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W Wid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  Teatr – socj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  Film – socj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42920" y="1071720"/>
          <a:ext cx="9001080" cy="3782880"/>
        </p:xfrm>
        <a:graphic>
          <a:graphicData uri="http://schemas.openxmlformats.org/drawingml/2006/table">
            <a:tbl>
              <a:tblPr/>
              <a:tblGrid>
                <a:gridCol w="928800"/>
                <a:gridCol w="8072280"/>
              </a:tblGrid>
              <a:tr h="1024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Uwzględniając widza : |b od Pirandella do Bergmana / |c pod red. Wojciecha Balucha i Małgorzaty Sugier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raków : |b "Księgarnia Akademicka", |c 200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historia |y 20 w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90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Teatr |x teo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  <a:tr h="68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a Komunikacja społeczna |x zagadnien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6f7"/>
                    </a:solidFill>
                  </a:tcPr>
                </a:tc>
              </a:tr>
            </a:tbl>
          </a:graphicData>
        </a:graphic>
      </p:graphicFrame>
      <p:sp>
        <p:nvSpPr>
          <p:cNvPr id="3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8:22:50Z</dcterms:created>
  <dc:creator>Talacha</dc:creator>
  <dc:description/>
  <dc:language>en-US</dc:language>
  <cp:lastModifiedBy>a.stolarczyk</cp:lastModifiedBy>
  <dcterms:modified xsi:type="dcterms:W3CDTF">2008-06-13T12:45:29Z</dcterms:modified>
  <cp:revision>34</cp:revision>
  <dc:subject/>
  <dc:title>Slajd 1</dc:title>
</cp:coreProperties>
</file>