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23F6-A38A-40D5-B133-BE1BBE6A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14128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6288-AFB9-4F73-8959-F66AE95B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14128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7378-CBA2-4276-9068-6C4C3BFB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14128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25D2-D942-482C-9D69-E4EB38E8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14128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99F-E960-4458-9FD5-BC11B2BB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14128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AB01-869D-4216-A5EA-9DA108FD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14128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DB2A-3433-4EBB-B151-66AA37DA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14128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90E5-8ED2-4F4A-8EA9-0585BCA4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2141280"/>
            <a:ext cx="77709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5605-2A6F-4BFB-9A93-B53CA92E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14128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EC78-177C-4279-9C8F-1735E753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14128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AEB1-2EFE-4A33-B66C-78463931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14128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13DD-44C5-485A-B7EF-8D7F2798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1084320" cy="6853320"/>
            <a:chOff x="0" y="0"/>
            <a:chExt cx="1084320" cy="685332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1084320" cy="685332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3"/>
            <p:cNvGrpSpPr/>
            <p:nvPr/>
          </p:nvGrpSpPr>
          <p:grpSpPr>
            <a:xfrm>
              <a:off x="75960" y="163080"/>
              <a:ext cx="150480" cy="6546600"/>
              <a:chOff x="75960" y="163080"/>
              <a:chExt cx="150480" cy="6546600"/>
            </a:xfrm>
          </p:grpSpPr>
          <p:sp>
            <p:nvSpPr>
              <p:cNvPr id="3" name="Rectangle 4"/>
              <p:cNvSpPr/>
              <p:nvPr/>
            </p:nvSpPr>
            <p:spPr>
              <a:xfrm>
                <a:off x="75960" y="175284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5"/>
              <p:cNvSpPr/>
              <p:nvPr/>
            </p:nvSpPr>
            <p:spPr>
              <a:xfrm>
                <a:off x="75960" y="198288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6"/>
              <p:cNvSpPr/>
              <p:nvPr/>
            </p:nvSpPr>
            <p:spPr>
              <a:xfrm>
                <a:off x="75960" y="221004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7"/>
              <p:cNvSpPr/>
              <p:nvPr/>
            </p:nvSpPr>
            <p:spPr>
              <a:xfrm>
                <a:off x="75960" y="243972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8"/>
              <p:cNvSpPr/>
              <p:nvPr/>
            </p:nvSpPr>
            <p:spPr>
              <a:xfrm>
                <a:off x="75960" y="2670120"/>
                <a:ext cx="150480" cy="1501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9"/>
              <p:cNvSpPr/>
              <p:nvPr/>
            </p:nvSpPr>
            <p:spPr>
              <a:xfrm>
                <a:off x="75960" y="289692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0"/>
              <p:cNvSpPr/>
              <p:nvPr/>
            </p:nvSpPr>
            <p:spPr>
              <a:xfrm>
                <a:off x="75960" y="312696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1"/>
              <p:cNvSpPr/>
              <p:nvPr/>
            </p:nvSpPr>
            <p:spPr>
              <a:xfrm>
                <a:off x="75960" y="3357000"/>
                <a:ext cx="150480" cy="1486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2"/>
              <p:cNvSpPr/>
              <p:nvPr/>
            </p:nvSpPr>
            <p:spPr>
              <a:xfrm>
                <a:off x="75960" y="358416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3"/>
              <p:cNvSpPr/>
              <p:nvPr/>
            </p:nvSpPr>
            <p:spPr>
              <a:xfrm>
                <a:off x="75960" y="381384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4"/>
              <p:cNvSpPr/>
              <p:nvPr/>
            </p:nvSpPr>
            <p:spPr>
              <a:xfrm>
                <a:off x="75960" y="4043880"/>
                <a:ext cx="1504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5"/>
              <p:cNvSpPr/>
              <p:nvPr/>
            </p:nvSpPr>
            <p:spPr>
              <a:xfrm>
                <a:off x="75960" y="426960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6"/>
              <p:cNvSpPr/>
              <p:nvPr/>
            </p:nvSpPr>
            <p:spPr>
              <a:xfrm>
                <a:off x="75960" y="449964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7"/>
              <p:cNvSpPr/>
              <p:nvPr/>
            </p:nvSpPr>
            <p:spPr>
              <a:xfrm>
                <a:off x="75960" y="472644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8"/>
              <p:cNvSpPr/>
              <p:nvPr/>
            </p:nvSpPr>
            <p:spPr>
              <a:xfrm>
                <a:off x="75960" y="495648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9"/>
              <p:cNvSpPr/>
              <p:nvPr/>
            </p:nvSpPr>
            <p:spPr>
              <a:xfrm>
                <a:off x="75960" y="518652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0"/>
              <p:cNvSpPr/>
              <p:nvPr/>
            </p:nvSpPr>
            <p:spPr>
              <a:xfrm>
                <a:off x="75960" y="541332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1"/>
              <p:cNvSpPr/>
              <p:nvPr/>
            </p:nvSpPr>
            <p:spPr>
              <a:xfrm>
                <a:off x="75960" y="564336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2"/>
              <p:cNvSpPr/>
              <p:nvPr/>
            </p:nvSpPr>
            <p:spPr>
              <a:xfrm>
                <a:off x="75960" y="587376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3"/>
              <p:cNvSpPr/>
              <p:nvPr/>
            </p:nvSpPr>
            <p:spPr>
              <a:xfrm>
                <a:off x="75960" y="610020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4"/>
              <p:cNvSpPr/>
              <p:nvPr/>
            </p:nvSpPr>
            <p:spPr>
              <a:xfrm>
                <a:off x="75960" y="633060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5"/>
              <p:cNvSpPr/>
              <p:nvPr/>
            </p:nvSpPr>
            <p:spPr>
              <a:xfrm>
                <a:off x="75960" y="655920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6"/>
              <p:cNvSpPr/>
              <p:nvPr/>
            </p:nvSpPr>
            <p:spPr>
              <a:xfrm>
                <a:off x="75960" y="163080"/>
                <a:ext cx="1504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7"/>
              <p:cNvSpPr/>
              <p:nvPr/>
            </p:nvSpPr>
            <p:spPr>
              <a:xfrm>
                <a:off x="75960" y="38988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8"/>
              <p:cNvSpPr/>
              <p:nvPr/>
            </p:nvSpPr>
            <p:spPr>
              <a:xfrm>
                <a:off x="75960" y="619920"/>
                <a:ext cx="1504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9"/>
              <p:cNvSpPr/>
              <p:nvPr/>
            </p:nvSpPr>
            <p:spPr>
              <a:xfrm>
                <a:off x="75960" y="84852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0"/>
              <p:cNvSpPr/>
              <p:nvPr/>
            </p:nvSpPr>
            <p:spPr>
              <a:xfrm>
                <a:off x="75960" y="107532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1"/>
              <p:cNvSpPr/>
              <p:nvPr/>
            </p:nvSpPr>
            <p:spPr>
              <a:xfrm>
                <a:off x="75960" y="130536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2"/>
              <p:cNvSpPr/>
              <p:nvPr/>
            </p:nvSpPr>
            <p:spPr>
              <a:xfrm>
                <a:off x="75960" y="153576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14128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2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09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FF6E4A-CB62-4FC4-81FF-1DEECE06386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koszykowa.pl/bpw/files/konf2006/kolasa_wladyslaw.pdf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tin.org.pl/konferencje/9forum/repoz/swoboda.pdf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tin.org.pl/konferencje/9forum/repoz/swoboda.pdf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tin.org.pl/konferencje/9forum/repoz/swoboda.pdf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35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4400" spc="-1" strike="noStrike">
                <a:solidFill>
                  <a:srgbClr val="fde503"/>
                </a:solidFill>
                <a:latin typeface="Arial"/>
              </a:rPr>
              <a:t>Wyszukiwanie przez słowa</a:t>
            </a:r>
            <a:br>
              <a:rPr sz="4400"/>
            </a:br>
            <a:r>
              <a:rPr b="1" lang="pl-PL" sz="4400" spc="-1" strike="noStrike">
                <a:solidFill>
                  <a:srgbClr val="fde503"/>
                </a:solidFill>
                <a:latin typeface="Arial"/>
              </a:rPr>
              <a:t>z hasła przedmiotowego</a:t>
            </a:r>
            <a:br>
              <a:rPr sz="4000"/>
            </a:br>
            <a:br>
              <a:rPr sz="2000"/>
            </a:br>
            <a:r>
              <a:rPr b="0" lang="pl-PL" sz="3400" spc="-1" strike="noStrike">
                <a:solidFill>
                  <a:srgbClr val="fde503"/>
                </a:solidFill>
                <a:latin typeface="Arial"/>
              </a:rPr>
              <a:t>– przegląd rozwiązań</a:t>
            </a:r>
            <a:br>
              <a:rPr sz="3400"/>
            </a:br>
            <a:r>
              <a:rPr b="0" lang="pl-PL" sz="3400" spc="-1" strike="noStrike">
                <a:solidFill>
                  <a:srgbClr val="fde503"/>
                </a:solidFill>
                <a:latin typeface="Arial"/>
              </a:rPr>
              <a:t>w katalogach OPAC WWW</a:t>
            </a:r>
            <a:br>
              <a:rPr sz="4000"/>
            </a:br>
            <a:br>
              <a:rPr sz="2000"/>
            </a:br>
            <a:r>
              <a:rPr b="0" lang="pl-PL" sz="2800" spc="-1" strike="noStrike" u="sng">
                <a:solidFill>
                  <a:srgbClr val="00ff00"/>
                </a:solidFill>
                <a:uFillTx/>
                <a:latin typeface="Arial"/>
              </a:rPr>
              <a:t>1. Wstę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7640" y="4581360"/>
            <a:ext cx="87850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zymon Kiełpińsk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ojewódzka Biblioteka Publiczna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– Książnica Kopernikańska w Toruni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500" spc="-1" strike="noStrike">
                <a:solidFill>
                  <a:srgbClr val="ffffff"/>
                </a:solidFill>
                <a:latin typeface="Times New Roman"/>
              </a:rPr>
              <a:t>Warsztaty Języka Haseł Przedmiotowych Biblioteki Narodowej i Uniwersalnej Klasyfikacji Dziesiętnej 201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500" spc="-1" strike="noStrike">
                <a:solidFill>
                  <a:srgbClr val="ffffff"/>
                </a:solidFill>
                <a:latin typeface="Times New Roman"/>
              </a:rPr>
              <a:t>Warszawa, Biblioteka Narodowa, 9 – 11 czerwca 2010 r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ymbol zastępczy numeru slajdu 5"/>
          <p:cNvSpPr/>
          <p:nvPr/>
        </p:nvSpPr>
        <p:spPr>
          <a:xfrm>
            <a:off x="70102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2B2B3D5-5F91-4B01-B463-83E418DC8C5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0360" y="141120"/>
            <a:ext cx="864072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pytania wyszukiwawcz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8783640" cy="56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zyjmijmy, że jestem uczniem szukającym publikacji na te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owstania warszawskiego, „Zbrodni i kary” Dostojewskiego ora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samego Dostojewskieg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onieważ nie mam pojęcia o jakichś tam zasadach dotyczącyc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haseł przedmiotowych (wiem tylko, że opis książki zawi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nformacje o treści), zadawać będę następujące pytani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de503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powstanie warszawsk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de503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Zbrodnia i k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de503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Dostojews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ymbol zastępczy numeru slajdu 5"/>
          <p:cNvSpPr/>
          <p:nvPr/>
        </p:nvSpPr>
        <p:spPr>
          <a:xfrm>
            <a:off x="70102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6CDFB23-0374-44E5-AE5A-0EB577142CF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0360" y="141120"/>
            <a:ext cx="864072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pytania wyszukiwawcz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8783640" cy="56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edług Słownika Języka Haseł Przedmiotowych BN są to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de503"/>
              </a:buClr>
              <a:buSzPct val="60000"/>
              <a:buFont typeface="Wingdings" charset="2"/>
              <a:buChar char="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formy odrzuc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de503"/>
              </a:buClr>
              <a:buSzPct val="60000"/>
              <a:buFont typeface="Wingdings" charset="2"/>
              <a:buChar char="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azwy rosyjskie w polskiej wersji językowej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(bez transkrypcji czy transliteracji)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de503"/>
              </a:buClr>
              <a:buSzPct val="60000"/>
              <a:buFont typeface="Wingdings" charset="2"/>
              <a:buChar char="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ytuł nie występuje na początku hasła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(podpole %t, po nazwie osobowej i datach życia)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de503"/>
              </a:buClr>
              <a:buSzPct val="60000"/>
              <a:buFont typeface="Wingdings" charset="2"/>
              <a:buChar char="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ytuł nie jest samodzielnym rekordem wzorcowy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szystkie 3 pytania są jednak poprawne z punktu widze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języka polskie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ymbol zastępczy numeru slajdu 5"/>
          <p:cNvSpPr/>
          <p:nvPr/>
        </p:nvSpPr>
        <p:spPr>
          <a:xfrm>
            <a:off x="70102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F6A4A04-00B7-42E8-A043-EE203C8DEE5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360" y="141120"/>
            <a:ext cx="864072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pytania wyszukiwawcz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8783640" cy="56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Dla przypomnienia – odpowiednie rekordy wzorcowe 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Słownika Języka Haseł Przedmiotowych B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 formie przyjętej „wewnątrz” jest rok wybuchu powstania;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ą 2 odsyłacze całkowite: 1 w szyku prostym i 1 w inwersji (oba bez roku wybuchu);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ą 4 odsyłacze uzupełniające: 2 do tematu szerszego i 2 do tematu kojarzonego.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06" name="Picture 2" descr="1 Powstanie warszawskie"/>
          <p:cNvPicPr/>
          <p:nvPr/>
        </p:nvPicPr>
        <p:blipFill>
          <a:blip r:embed="rId1"/>
          <a:stretch/>
        </p:blipFill>
        <p:spPr>
          <a:xfrm>
            <a:off x="509760" y="765000"/>
            <a:ext cx="81230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Tytuły nie maja osobnych rekordów wzorcowych, są zawarte w konstrukcji autor – tytuł. Formą przyjętą jest tu tytuł oryginału w transliteracji, polska wersja tytułu to odsyłacz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ałkowity, przy czym nazwisko zawsze jest w formie ujednoliconej (transliteracja).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08" name="Picture 2" descr="2 1 Zbrodnia i kara"/>
          <p:cNvPicPr/>
          <p:nvPr/>
        </p:nvPicPr>
        <p:blipFill>
          <a:blip r:embed="rId1"/>
          <a:stretch/>
        </p:blipFill>
        <p:spPr>
          <a:xfrm>
            <a:off x="509760" y="765000"/>
            <a:ext cx="81230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Rekord wzorcowy autor – tytuł w formacie MARC 21.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szcze raz zwracam Państwa uwagę – polski tytuł nie jest skojarzony z polską wersją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azwiska. W tej konstrukcji nazwisko w każdym odsyłaczu jest w formie ujednoliconej.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10" name="Picture 2" descr="2 2 Zbrodnia i kara MARC"/>
          <p:cNvPicPr/>
          <p:nvPr/>
        </p:nvPicPr>
        <p:blipFill>
          <a:blip r:embed="rId1"/>
          <a:stretch/>
        </p:blipFill>
        <p:spPr>
          <a:xfrm>
            <a:off x="509760" y="765000"/>
            <a:ext cx="81230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Rekord wzorcowy dla Dostojewskiego: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 nazwisku proszę zwrócić uwagę na opozycję: Dosto</a:t>
            </a:r>
            <a:r>
              <a:rPr b="0" lang="pl-PL" sz="1800" spc="-1" strike="noStrike">
                <a:solidFill>
                  <a:srgbClr val="fde503"/>
                </a:solidFill>
                <a:latin typeface="Arial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pl-PL" sz="1800" spc="-1" strike="noStrike">
                <a:solidFill>
                  <a:srgbClr val="fde503"/>
                </a:solidFill>
                <a:latin typeface="Arial"/>
              </a:rPr>
              <a:t>w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ki – Dostoe</a:t>
            </a:r>
            <a:r>
              <a:rPr b="0" lang="pl-PL" sz="1800" spc="-1" strike="noStrike">
                <a:solidFill>
                  <a:srgbClr val="fde503"/>
                </a:solidFill>
                <a:latin typeface="Arial"/>
              </a:rPr>
              <a:t>v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ki</a:t>
            </a:r>
            <a:r>
              <a:rPr b="0" lang="pl-PL" sz="1800" spc="-1" strike="noStrike">
                <a:solidFill>
                  <a:srgbClr val="fde503"/>
                </a:solidFill>
                <a:latin typeface="Arial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w 1. imieniu: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pl-PL" sz="1800" spc="-1" strike="noStrike">
                <a:solidFill>
                  <a:srgbClr val="fde503"/>
                </a:solidFill>
                <a:latin typeface="Arial"/>
              </a:rPr>
              <a:t>ë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or – F</a:t>
            </a:r>
            <a:r>
              <a:rPr b="0" lang="pl-PL" sz="1800" spc="-1" strike="noStrike">
                <a:solidFill>
                  <a:srgbClr val="fde503"/>
                </a:solidFill>
                <a:latin typeface="Arial"/>
              </a:rPr>
              <a:t>e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or i F</a:t>
            </a:r>
            <a:r>
              <a:rPr b="0" lang="pl-PL" sz="1800" spc="-1" strike="noStrike">
                <a:solidFill>
                  <a:srgbClr val="fde503"/>
                </a:solidFill>
                <a:latin typeface="Arial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dor – F</a:t>
            </a:r>
            <a:r>
              <a:rPr b="0" lang="pl-PL" sz="1800" spc="-1" strike="noStrike">
                <a:solidFill>
                  <a:srgbClr val="fde503"/>
                </a:solidFill>
                <a:latin typeface="Arial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dor, a w 2. imieniu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</a:t>
            </a:r>
            <a:r>
              <a:rPr b="0" lang="en-US" sz="1800" spc="-1" strike="noStrike">
                <a:solidFill>
                  <a:srgbClr val="fde503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l-PL" sz="1800" spc="-1" strike="noStrike">
                <a:solidFill>
                  <a:srgbClr val="fde503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vič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</a:t>
            </a:r>
            <a:r>
              <a:rPr b="0" lang="en-US" sz="1800" spc="-1" strike="noStrike">
                <a:solidFill>
                  <a:srgbClr val="fde503"/>
                </a:solidFill>
                <a:latin typeface="Arial"/>
              </a:rPr>
              <a:t>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de503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vič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</a:t>
            </a:r>
            <a:r>
              <a:rPr b="0" lang="pl-PL" sz="1800" spc="-1" strike="noStrike">
                <a:solidFill>
                  <a:srgbClr val="fde503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fde503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l-PL" sz="1800" spc="-1" strike="noStrike">
                <a:solidFill>
                  <a:srgbClr val="fde50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vi</a:t>
            </a:r>
            <a:r>
              <a:rPr b="0" lang="pl-PL" sz="1800" spc="-1" strike="noStrike">
                <a:solidFill>
                  <a:srgbClr val="fde503"/>
                </a:solidFill>
                <a:latin typeface="Arial"/>
              </a:rPr>
              <a:t>ch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12" name="Picture 2" descr="3 Dostojewski"/>
          <p:cNvPicPr/>
          <p:nvPr/>
        </p:nvPicPr>
        <p:blipFill>
          <a:blip r:embed="rId1"/>
          <a:stretch/>
        </p:blipFill>
        <p:spPr>
          <a:xfrm>
            <a:off x="509760" y="765000"/>
            <a:ext cx="81230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ymbol zastępczy numeru slajdu 5"/>
          <p:cNvSpPr/>
          <p:nvPr/>
        </p:nvSpPr>
        <p:spPr>
          <a:xfrm>
            <a:off x="70102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F45E398-BB48-426D-A806-1A22E3C9D76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0360" y="141120"/>
            <a:ext cx="864072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pytania wyszukiwawcz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8783640" cy="56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Bywa, że po zadaniu tych trzech pytań na wszelkie możliwe (j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mi się wydaje) sposoby, porzucam rolę ucznia i jako bibliotekar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yposażony we wiedzę przystępuję do dalszych testó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dają wówczas pytani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de503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powstanie 1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de503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prestuple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de503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Dostoevski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ewentualni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de503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Szeksp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de503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Shakespe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de503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Sen nocy letnie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ymbol zastępczy numeru slajdu 4"/>
          <p:cNvSpPr/>
          <p:nvPr/>
        </p:nvSpPr>
        <p:spPr>
          <a:xfrm>
            <a:off x="70102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291C36C-1DBE-4BC8-B012-B67E546D322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2" descr="4 Szekspi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ymbol zastępczy numeru slajdu 4"/>
          <p:cNvSpPr/>
          <p:nvPr/>
        </p:nvSpPr>
        <p:spPr>
          <a:xfrm>
            <a:off x="70102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0024349-DDC5-43EE-B9F9-74B4974F589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7 Sen nocy letnie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ymbol zastępczy numeru slajdu 5"/>
          <p:cNvSpPr/>
          <p:nvPr/>
        </p:nvSpPr>
        <p:spPr>
          <a:xfrm>
            <a:off x="70102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C136AD0-7BA3-4389-8E09-E6CE626EC3A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60000" y="404280"/>
            <a:ext cx="8783640" cy="630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Wprowadzane w ostatnim czasie zmiany w JHP BN (rezygnac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z określnika formalnego i przeniesienie zawartych tam dany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do osobnego pola 655) wpłyną na sposób wyszukiwa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informacji w komputerowych katalogach biblioteczny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bok przeglądania i przeszukiwania indeksu hase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zedmiotowych czy rekordów kartoteki haseł wzorcowyc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zydatne będzie przeszukiwanie zawartości charakterysty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zedmiotowych rekordów bibliograficznych (pola 6xx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ba sposoby wyszukiwania informacj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zeglądanie / przeszukiwanie indeksu haseł przedmiotowych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 tym także przeszukiwanie kartoteki haseł wzorcowy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zeszukiwanie charakterystyk przedmiotowych rekordów bibliograficznych (pola 6x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są obecne w katalogach komputerowych (OPAC WW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ymbol zastępczy numeru slajdu 4"/>
          <p:cNvSpPr/>
          <p:nvPr/>
        </p:nvSpPr>
        <p:spPr>
          <a:xfrm>
            <a:off x="70102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8152360-5D31-410D-B730-2D12BBD86E8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2" descr="6 Macbet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 poniższym rekordzie wzorcowym szczególnie wyraźnie widać, że w hasłach typu autor – tytuł podaje się znane warianty tytułu dzieła, a nie warianty nazwiska autora.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azwa osobowa (także w odsyłaczach) zawsze pozostaje w formie ujednoliconej.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23" name="Picture 2" descr="5 Hamlet"/>
          <p:cNvPicPr/>
          <p:nvPr/>
        </p:nvPicPr>
        <p:blipFill>
          <a:blip r:embed="rId1"/>
          <a:stretch/>
        </p:blipFill>
        <p:spPr>
          <a:xfrm>
            <a:off x="509760" y="765000"/>
            <a:ext cx="81230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ymbol zastępczy numeru slajdu 5"/>
          <p:cNvSpPr/>
          <p:nvPr/>
        </p:nvSpPr>
        <p:spPr>
          <a:xfrm>
            <a:off x="70102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1D02AB1-04A3-4EF0-80D9-E48E0D3A5DE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0360" y="141120"/>
            <a:ext cx="864072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zasięg badani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60360" y="1079640"/>
            <a:ext cx="8640720" cy="56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Prezentacja działania wyszukiwania przez słowa z hase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przedmiotowych obejmuje katalogi internetowe bibliot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wykorzystujących następujące programy bibliotecz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3000"/>
              </a:lnSpc>
              <a:spcBef>
                <a:spcPts val="799"/>
              </a:spcBef>
              <a:buClr>
                <a:srgbClr val="fde503"/>
              </a:buClr>
              <a:buSzPct val="6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INNOP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3000"/>
              </a:lnSpc>
              <a:spcBef>
                <a:spcPts val="799"/>
              </a:spcBef>
              <a:buClr>
                <a:srgbClr val="fde503"/>
              </a:buClr>
              <a:buSzPct val="6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M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3000"/>
              </a:lnSpc>
              <a:spcBef>
                <a:spcPts val="799"/>
              </a:spcBef>
              <a:buClr>
                <a:srgbClr val="fde503"/>
              </a:buClr>
              <a:buSzPct val="6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SOW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3000"/>
              </a:lnSpc>
              <a:spcBef>
                <a:spcPts val="799"/>
              </a:spcBef>
              <a:buClr>
                <a:srgbClr val="fde503"/>
              </a:buClr>
              <a:buSzPct val="6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LI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3000"/>
              </a:lnSpc>
              <a:spcBef>
                <a:spcPts val="799"/>
              </a:spcBef>
              <a:buClr>
                <a:srgbClr val="fde503"/>
              </a:buClr>
              <a:buSzPct val="6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PA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3000"/>
              </a:lnSpc>
              <a:spcBef>
                <a:spcPts val="799"/>
              </a:spcBef>
              <a:buClr>
                <a:srgbClr val="fde503"/>
              </a:buClr>
              <a:buSzPct val="6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PRO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3000"/>
              </a:lnSpc>
              <a:spcBef>
                <a:spcPts val="799"/>
              </a:spcBef>
              <a:buClr>
                <a:srgbClr val="fde503"/>
              </a:buClr>
              <a:buSzPct val="6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ALEP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Analizę przeprowadziłem w maju 2010 rok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ymbol zastępczy numeru slajdu 5"/>
          <p:cNvSpPr/>
          <p:nvPr/>
        </p:nvSpPr>
        <p:spPr>
          <a:xfrm>
            <a:off x="70102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8398504-1C90-4302-8BD0-3EF28E8741D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0360" y="141120"/>
            <a:ext cx="864072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zasięg badani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60360" y="1079640"/>
            <a:ext cx="8640720" cy="56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911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Według danych Instytutu Informacji Naukowej i Bibliotekoznawstwa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Akademii Pedagogicznej w Krakowie z 2006 r. rozpowszechnieni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najpopularniejszych systemów bibliotecznych wyglądało następująco: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(pominięto tu systemy dla dużych bibliotek takie jak: Virtua, Aleph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0" lang="pl-PL" sz="2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ducent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r>
              <a:rPr b="0" lang="pl-PL" sz="2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czba instytucji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pl-PL" sz="2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czba stanowis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MAK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BN                              1870                     brak danyc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SOWA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            Sokrates                       980                          39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LIBRA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pl-PL" sz="7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   MOL                             386              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        56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PROLIB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 Max Elektronik             145                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      184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PATRON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        MOL                               59                  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      26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MATEUSZ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      M. Domański       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      17                   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        5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zob.: Władysław Marek Kolasa, Marcin Król. </a:t>
            </a:r>
            <a:r>
              <a:rPr b="0" i="1" lang="pl-PL" sz="1200" spc="-1" strike="noStrike">
                <a:solidFill>
                  <a:srgbClr val="ffffff"/>
                </a:solidFill>
                <a:latin typeface="Arial"/>
              </a:rPr>
              <a:t>Analiza możliwości komputerowych systemów bibliotecznych. Raport 2006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 [online]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ostępny w Internecie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l-PL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koszykowa.pl/bpw/files/konf2006/kolasa_wladyslaw.pd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92"/>
          <p:cNvSpPr/>
          <p:nvPr/>
        </p:nvSpPr>
        <p:spPr>
          <a:xfrm>
            <a:off x="1440" y="-720"/>
            <a:ext cx="630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ymbol zastępczy numeru slajdu 5"/>
          <p:cNvSpPr/>
          <p:nvPr/>
        </p:nvSpPr>
        <p:spPr>
          <a:xfrm>
            <a:off x="70102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2E462AB-3FFB-4FB5-9631-1AC1637F766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0360" y="141120"/>
            <a:ext cx="864072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wyniki analiz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0360" y="1079640"/>
            <a:ext cx="8640720" cy="56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lnSpc>
                <a:spcPct val="9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Jak już mówiłem, nie było moim celem kompleksowe bad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efektywności wyszukiwania przez słowa w poszczególny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systemach biblioteczny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Chciałem również uniknąć oceniania poszczególnych systemó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czy bibliote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Zależało mi przede wszystkim na </a:t>
            </a:r>
            <a:r>
              <a:rPr b="0" lang="pl-P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orównaniu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możliwośc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i przyjętych rozwiązań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Ilość i jakość informacji uzyskanych w trakcie wyszukiwa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zależy przecież nie tylko od systemu wdrożonego w dane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bibliotece, ale także od jego wersji, jakości danych tworzący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bazę, stosowania – bądź nie – kartoteki wzorcowej, forma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MARC 21, rozwiązań przyjętych w bibliotece, konsekwentnoś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w ich stosowaniu i wielu innych czynnikó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92"/>
          <p:cNvSpPr/>
          <p:nvPr/>
        </p:nvSpPr>
        <p:spPr>
          <a:xfrm>
            <a:off x="1440" y="-720"/>
            <a:ext cx="630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ymbol zastępczy numeru slajdu 5"/>
          <p:cNvSpPr/>
          <p:nvPr/>
        </p:nvSpPr>
        <p:spPr>
          <a:xfrm>
            <a:off x="70102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9DB0CEF-AF9E-4297-A125-F154ABF18D3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0360" y="141120"/>
            <a:ext cx="864072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wyniki analiz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0360" y="1125000"/>
            <a:ext cx="8640720" cy="55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lnSpc>
                <a:spcPct val="7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Chciałbym, aby śledząc kolejne przykłady, zwracali Pańs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uwagę na następujące element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–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jakiego rodzaju wyszukiwanie jest możliw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przeglądanie czy wyszukiwanie (browsing – searching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wyszukiwanie po początku czy po słowach z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–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co jest listą wyników – hasła czy rekordy bibliograficz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–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czy i w jaki sposób hasła przedmiotowe (rekordy wzorcow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są uporządkowane w indeksie, kartotece, na liście wynikó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–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czy są stosowane odsyłacze (całkowite i uzupełniają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–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jaka forma nazwy osobowej i tytułu jest stosowana jak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przyjęta w danej bibliotece i czy konsekwent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–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czy z poziomu opisu książki jest możliwe przejście do inny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opisów wykorzystujących to samo hasł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–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jak w ogóle wyglądają indeksy, listy wyników, opisy (czy s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czytelne – układ, kolorystyka, wielkość czcionk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92"/>
          <p:cNvSpPr/>
          <p:nvPr/>
        </p:nvSpPr>
        <p:spPr>
          <a:xfrm>
            <a:off x="1440" y="-720"/>
            <a:ext cx="630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ymbol zastępczy numeru slajdu 5"/>
          <p:cNvSpPr/>
          <p:nvPr/>
        </p:nvSpPr>
        <p:spPr>
          <a:xfrm>
            <a:off x="70102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6C6D820-5CEB-42CF-9030-03ED4FDD0F7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0360" y="141120"/>
            <a:ext cx="864072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skrót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0360" y="1079640"/>
            <a:ext cx="8640720" cy="56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lnSpc>
                <a:spcPct val="7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Z uwagi na szczupłość miejsca nad slajdami wprowadziłe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w komentarzach następujące skrót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de503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HP – hasło przedmiotowe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de503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RB – rekord bibliograficzny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bez względu na to, czy jest to pełen rekord bibliograficzny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czy tylko mniej lub bardziej skrócony opis bibliograficzny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de503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RW – rekord wzorcowy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niezależnie od tego, czy jest to rekord wzorcowy hasła przedmiotowego kartoteki haseł wzorcowych czy tylko pozycja indeksu haseł przedmiotowych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(nie wnikam, czy biblioteka stosuje kartotekę rekordów wzorcowych czy ni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92"/>
          <p:cNvSpPr/>
          <p:nvPr/>
        </p:nvSpPr>
        <p:spPr>
          <a:xfrm>
            <a:off x="1440" y="-720"/>
            <a:ext cx="630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ymbol zastępczy numeru slajdu 5"/>
          <p:cNvSpPr/>
          <p:nvPr/>
        </p:nvSpPr>
        <p:spPr>
          <a:xfrm>
            <a:off x="70102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40516E3-DD99-408B-8291-14D87C37221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60000" y="404280"/>
            <a:ext cx="8783640" cy="630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Być może, w niedalekiej przyszłości, niektóre biblioteki czek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reorganizacja indeksów wyszukiwawczych: dodanie nowych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zebudowa już istniejących, zmiana sposobu prezentacj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yników wyszukiwania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Być może bibliotekarze będą robić to samodzielnie, być moż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e wsparciem konsultantów, a być może producenci  systemów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bibliotecznych sami zaproponują nam nowe rozwiązania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Bywa też tak, że korzystając na co dzień z pewnych rozwiąza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zyzwyczajamy się do nich, zaczynamy akceptować, choć 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awsze są one takie, jak byśmy sobie tego życzyli. W końcu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raz trudniej nam znaleźć inne podejście do problem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Dlatego też myślę, że warto zobaczyć, co mają „inni”, z jaki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borykają się trudnościami, w jaki sposób sobie z nimi radzą i cz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zypadkiem nie dysponują czymś, co i nam by się przydał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ymbol zastępczy numeru slajdu 4"/>
          <p:cNvSpPr/>
          <p:nvPr/>
        </p:nvSpPr>
        <p:spPr>
          <a:xfrm>
            <a:off x="70102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E044989-E925-44E1-AC2E-9583CB69045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14128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trochę teori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ymbol zastępczy numeru slajdu 5"/>
          <p:cNvSpPr/>
          <p:nvPr/>
        </p:nvSpPr>
        <p:spPr>
          <a:xfrm>
            <a:off x="70102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45D5125-046A-4DC3-BE13-4A6972463A8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0360" y="141120"/>
            <a:ext cx="864072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zadania OPAC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0360" y="1079640"/>
            <a:ext cx="8640720" cy="56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5299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-529920">
              <a:lnSpc>
                <a:spcPct val="93000"/>
              </a:lnSpc>
              <a:spcBef>
                <a:spcPts val="799"/>
              </a:spcBef>
              <a:buClr>
                <a:srgbClr val="fde503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informowanie o zasobie biblioteki / bibliotek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-529920">
              <a:lnSpc>
                <a:spcPct val="93000"/>
              </a:lnSpc>
              <a:spcBef>
                <a:spcPts val="799"/>
              </a:spcBef>
              <a:buClr>
                <a:srgbClr val="fde503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umożliwienie odszukania dokumentu o znanych cechach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-529920">
              <a:lnSpc>
                <a:spcPct val="93000"/>
              </a:lnSpc>
              <a:spcBef>
                <a:spcPts val="799"/>
              </a:spcBef>
              <a:buClr>
                <a:srgbClr val="fde503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pomoc w doborze dokumentów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-529920">
              <a:lnSpc>
                <a:spcPct val="93000"/>
              </a:lnSpc>
              <a:spcBef>
                <a:spcPts val="799"/>
              </a:spcBef>
              <a:buClr>
                <a:srgbClr val="fde503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informowanie o statusie i dostępności dokumentów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-529920">
              <a:lnSpc>
                <a:spcPct val="93000"/>
              </a:lnSpc>
              <a:spcBef>
                <a:spcPts val="799"/>
              </a:spcBef>
              <a:buClr>
                <a:srgbClr val="fde503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umożliwienie ich zamawiania, rezerwacji i prolongaty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-529920">
              <a:lnSpc>
                <a:spcPct val="93000"/>
              </a:lnSpc>
              <a:spcBef>
                <a:spcPts val="799"/>
              </a:spcBef>
              <a:buClr>
                <a:srgbClr val="fde503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apewnienie dostępu do informacji o czytelniku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(wraz z historią i dokładną informacją bieżącą o operacjach wykonanych przez czytelnik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zob.: Izabela Swoboda. </a:t>
            </a:r>
            <a:r>
              <a:rPr b="0" i="1" lang="pl-PL" sz="1200" spc="-1" strike="noStrike">
                <a:solidFill>
                  <a:srgbClr val="ffffff"/>
                </a:solidFill>
                <a:latin typeface="Arial"/>
              </a:rPr>
              <a:t>Efektywność wyszukiwania informacji w publicznie dostępnych katalogach bibliotek wykorzystujący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Arial"/>
              </a:rPr>
              <a:t>polskie programy biblioteczne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 [online]. Dostępny w Internecie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l-PL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ptin.org.pl/konferencje/9forum/repoz/swoboda.pd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ymbol zastępczy numeru slajdu 5"/>
          <p:cNvSpPr/>
          <p:nvPr/>
        </p:nvSpPr>
        <p:spPr>
          <a:xfrm>
            <a:off x="70102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B3C92BC-45DC-4958-8670-4C690530D28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0360" y="141120"/>
            <a:ext cx="864072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efektywność OPAC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0360" y="1079280"/>
            <a:ext cx="864072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5666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Efektywność systemu informacyjno-wyszukiwawczego to cech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kreślająca jego przydatność dla użytkownika informacj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mierzona współczynnikami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3000"/>
              </a:lnSpc>
              <a:spcBef>
                <a:spcPts val="799"/>
              </a:spcBef>
              <a:buClr>
                <a:srgbClr val="fde503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dokładności wyszukiwania informacji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(czy wszystkie wyszukane dokumenty spełniają kryteria określone w zapytaniu użytkownika?)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3000"/>
              </a:lnSpc>
              <a:spcBef>
                <a:spcPts val="799"/>
              </a:spcBef>
              <a:buClr>
                <a:srgbClr val="fde503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kompletności wyszukiwania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(czy zostały wyszukane opisy wszystkich dokumentów spełniających kryteria określone w zapytaniu?)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3000"/>
              </a:lnSpc>
              <a:spcBef>
                <a:spcPts val="799"/>
              </a:spcBef>
              <a:buClr>
                <a:srgbClr val="fde503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innymi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(np.: czas koszt wyszukiwania)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zob.: Izabela Swoboda. </a:t>
            </a:r>
            <a:r>
              <a:rPr b="0" i="1" lang="pl-PL" sz="1200" spc="-1" strike="noStrike">
                <a:solidFill>
                  <a:srgbClr val="ffffff"/>
                </a:solidFill>
                <a:latin typeface="Arial"/>
              </a:rPr>
              <a:t>Efektywność wyszukiwania informacji w publicznie dostępnych katalogach bibliotek wykorzystujący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Arial"/>
              </a:rPr>
              <a:t>polskie programy biblioteczne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 [online]. Dostępny w Internecie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l-PL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ptin.org.pl/konferencje/9forum/repoz/swoboda.pd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ymbol zastępczy numeru slajdu 5"/>
          <p:cNvSpPr/>
          <p:nvPr/>
        </p:nvSpPr>
        <p:spPr>
          <a:xfrm>
            <a:off x="70102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4AC49C8-8861-49ED-B289-EFCAC412E1B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0360" y="141120"/>
            <a:ext cx="864072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efektywność OPAC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60000" y="1079280"/>
            <a:ext cx="878364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9112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a efektywność wyszukiwania informacji wpływa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73000"/>
              </a:lnSpc>
              <a:spcBef>
                <a:spcPts val="799"/>
              </a:spcBef>
              <a:buClr>
                <a:srgbClr val="fde503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jakość danych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(wielkość i aktualność bazy, stopień opracowania, spójność  danych – wykorzystanie KHW)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73000"/>
              </a:lnSpc>
              <a:spcBef>
                <a:spcPts val="799"/>
              </a:spcBef>
              <a:buClr>
                <a:srgbClr val="fde503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zastosowane oprogramowanie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(interfejs, aparat wyszukiwawczy, sposób prezentacji wyników wyszukiwania, możliwość selekcji i sortowania wyszukanych informacji, automatyczna rejestracja historii wyszukiwań, automatyczny system wykrywania i ew. korekty błędów)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73000"/>
              </a:lnSpc>
              <a:spcBef>
                <a:spcPts val="799"/>
              </a:spcBef>
              <a:buClr>
                <a:srgbClr val="fde503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znajomość zawartości bazy i zastosowanych narzędzi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(dostępne informacje o systemie i jego zawartości, pomoc ogólna)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zob.: Izabela Swoboda. </a:t>
            </a:r>
            <a:r>
              <a:rPr b="0" i="1" lang="pl-PL" sz="1200" spc="-1" strike="noStrike">
                <a:solidFill>
                  <a:srgbClr val="ffffff"/>
                </a:solidFill>
                <a:latin typeface="Arial"/>
              </a:rPr>
              <a:t>Efektywność wyszukiwania informacji w publicznie dostępnych katalogach bibliotek wykorzystujący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73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Arial"/>
              </a:rPr>
              <a:t>polskie programy biblioteczne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 [online]. Dostępny w Internecie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l-PL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ptin.org.pl/konferencje/9forum/repoz/swoboda.pd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ymbol zastępczy numeru slajdu 5"/>
          <p:cNvSpPr/>
          <p:nvPr/>
        </p:nvSpPr>
        <p:spPr>
          <a:xfrm>
            <a:off x="70102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FC7BC78-5568-41FF-B531-0E0E0CBB4DF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360" y="141120"/>
            <a:ext cx="864072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założeni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8783640" cy="56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e było moim celem kompleksowe badanie efektywnośc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yszukiwania informacji w katalogów OPAC bibliotek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ierwotnie miałem pokazać Państwu różne sposo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yszukiwania przez słowa, zawężania listy wyników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dodawania kolejnych kryteriów wyszukiwawczy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 kontekście obecnych zmian w metodyce JHP B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onieważ jedna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–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e ogłoszono jeszcze wszystkich zmian w JHP B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–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bazy w naszych bibliotekach nie są zmeliorow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–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sami dopiero oswajamy się z „nowościami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ostanowiłem zmienić temat wystąpie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ymbol zastępczy numeru slajdu 5"/>
          <p:cNvSpPr/>
          <p:nvPr/>
        </p:nvSpPr>
        <p:spPr>
          <a:xfrm>
            <a:off x="70102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AC24FE5-E224-461A-BF23-45E0AB9CD4C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0360" y="141120"/>
            <a:ext cx="864072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założeni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8783640" cy="56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ależało mi na pokazaniu Państwu, jak obecnie przebieg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yszukiwanie przez słowa z haseł przedmiotowych w różny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systemach biblioteczny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yszedłem z założenia, że większość z nas dosyć dobrze z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możliwości swojego OPACa WWW, rzadziej jednak orientujem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się w działaniu innych systemó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e będzie to jednak wyczerpujące omówienie wszystk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możliwości każdego z systemó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ybrane systemy „przetestowałem” za pomocą 3 pytań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yszukiwawczych, wcielając się przy tym w rolę użytkown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 niezbyt szerokich kompetencja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osia</dc:creator>
  <dc:description/>
  <dc:language>en-US</dc:language>
  <cp:lastModifiedBy>Włodarczyk</cp:lastModifiedBy>
  <dcterms:modified xsi:type="dcterms:W3CDTF">2010-09-23T13:15:33Z</dcterms:modified>
  <cp:revision>123</cp:revision>
  <dc:subject/>
  <dc:title>Rekordy wzorcowe LKHW</dc:title>
</cp:coreProperties>
</file>