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7326-44F9-4FBE-BFEC-82EB436D5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EE03-6978-4466-9747-D7239209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68BC-3964-4D97-B8A9-39B026FA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5E9-1593-487E-B298-93DB845B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CDF8-269E-4C38-B51F-D060228C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4E46-7DD0-448F-A745-1FF81E499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B128-70F4-4359-A918-51B1688E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2EE0-2620-4F16-A0EE-921C8428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2141280"/>
            <a:ext cx="777096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743E-0105-4124-B588-4AF1E7AF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B818-1062-4BAA-8823-5E2DEA4E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42EE-AAC5-4A84-941A-B3E4081D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B41-C52E-4C6F-8510-2BF331EE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1084320" cy="6853320"/>
            <a:chOff x="0" y="0"/>
            <a:chExt cx="1084320" cy="685332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1084320" cy="685332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3"/>
            <p:cNvGrpSpPr/>
            <p:nvPr/>
          </p:nvGrpSpPr>
          <p:grpSpPr>
            <a:xfrm>
              <a:off x="75960" y="163080"/>
              <a:ext cx="150480" cy="6546600"/>
              <a:chOff x="75960" y="163080"/>
              <a:chExt cx="150480" cy="6546600"/>
            </a:xfrm>
          </p:grpSpPr>
          <p:sp>
            <p:nvSpPr>
              <p:cNvPr id="3" name="Rectangle 4"/>
              <p:cNvSpPr/>
              <p:nvPr/>
            </p:nvSpPr>
            <p:spPr>
              <a:xfrm>
                <a:off x="75960" y="175284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5"/>
              <p:cNvSpPr/>
              <p:nvPr/>
            </p:nvSpPr>
            <p:spPr>
              <a:xfrm>
                <a:off x="75960" y="198288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6"/>
              <p:cNvSpPr/>
              <p:nvPr/>
            </p:nvSpPr>
            <p:spPr>
              <a:xfrm>
                <a:off x="75960" y="221004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7"/>
              <p:cNvSpPr/>
              <p:nvPr/>
            </p:nvSpPr>
            <p:spPr>
              <a:xfrm>
                <a:off x="75960" y="243972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8"/>
              <p:cNvSpPr/>
              <p:nvPr/>
            </p:nvSpPr>
            <p:spPr>
              <a:xfrm>
                <a:off x="75960" y="2670120"/>
                <a:ext cx="150480" cy="1501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9"/>
              <p:cNvSpPr/>
              <p:nvPr/>
            </p:nvSpPr>
            <p:spPr>
              <a:xfrm>
                <a:off x="75960" y="289692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0"/>
              <p:cNvSpPr/>
              <p:nvPr/>
            </p:nvSpPr>
            <p:spPr>
              <a:xfrm>
                <a:off x="75960" y="312696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1"/>
              <p:cNvSpPr/>
              <p:nvPr/>
            </p:nvSpPr>
            <p:spPr>
              <a:xfrm>
                <a:off x="75960" y="3357000"/>
                <a:ext cx="150480" cy="1486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2"/>
              <p:cNvSpPr/>
              <p:nvPr/>
            </p:nvSpPr>
            <p:spPr>
              <a:xfrm>
                <a:off x="75960" y="358416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3"/>
              <p:cNvSpPr/>
              <p:nvPr/>
            </p:nvSpPr>
            <p:spPr>
              <a:xfrm>
                <a:off x="75960" y="381384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4"/>
              <p:cNvSpPr/>
              <p:nvPr/>
            </p:nvSpPr>
            <p:spPr>
              <a:xfrm>
                <a:off x="75960" y="4043880"/>
                <a:ext cx="1504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5"/>
              <p:cNvSpPr/>
              <p:nvPr/>
            </p:nvSpPr>
            <p:spPr>
              <a:xfrm>
                <a:off x="75960" y="426960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6"/>
              <p:cNvSpPr/>
              <p:nvPr/>
            </p:nvSpPr>
            <p:spPr>
              <a:xfrm>
                <a:off x="75960" y="449964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7"/>
              <p:cNvSpPr/>
              <p:nvPr/>
            </p:nvSpPr>
            <p:spPr>
              <a:xfrm>
                <a:off x="75960" y="4726440"/>
                <a:ext cx="150480" cy="15336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8"/>
              <p:cNvSpPr/>
              <p:nvPr/>
            </p:nvSpPr>
            <p:spPr>
              <a:xfrm>
                <a:off x="75960" y="495648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19"/>
              <p:cNvSpPr/>
              <p:nvPr/>
            </p:nvSpPr>
            <p:spPr>
              <a:xfrm>
                <a:off x="75960" y="51865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0"/>
              <p:cNvSpPr/>
              <p:nvPr/>
            </p:nvSpPr>
            <p:spPr>
              <a:xfrm>
                <a:off x="75960" y="541332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1"/>
              <p:cNvSpPr/>
              <p:nvPr/>
            </p:nvSpPr>
            <p:spPr>
              <a:xfrm>
                <a:off x="75960" y="56433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2"/>
              <p:cNvSpPr/>
              <p:nvPr/>
            </p:nvSpPr>
            <p:spPr>
              <a:xfrm>
                <a:off x="75960" y="587376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3"/>
              <p:cNvSpPr/>
              <p:nvPr/>
            </p:nvSpPr>
            <p:spPr>
              <a:xfrm>
                <a:off x="75960" y="610020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4"/>
              <p:cNvSpPr/>
              <p:nvPr/>
            </p:nvSpPr>
            <p:spPr>
              <a:xfrm>
                <a:off x="75960" y="633060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5"/>
              <p:cNvSpPr/>
              <p:nvPr/>
            </p:nvSpPr>
            <p:spPr>
              <a:xfrm>
                <a:off x="75960" y="655920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6"/>
              <p:cNvSpPr/>
              <p:nvPr/>
            </p:nvSpPr>
            <p:spPr>
              <a:xfrm>
                <a:off x="75960" y="163080"/>
                <a:ext cx="1504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7"/>
              <p:cNvSpPr/>
              <p:nvPr/>
            </p:nvSpPr>
            <p:spPr>
              <a:xfrm>
                <a:off x="75960" y="389880"/>
                <a:ext cx="150480" cy="1519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8"/>
              <p:cNvSpPr/>
              <p:nvPr/>
            </p:nvSpPr>
            <p:spPr>
              <a:xfrm>
                <a:off x="75960" y="619920"/>
                <a:ext cx="1504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29"/>
              <p:cNvSpPr/>
              <p:nvPr/>
            </p:nvSpPr>
            <p:spPr>
              <a:xfrm>
                <a:off x="75960" y="84852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0"/>
              <p:cNvSpPr/>
              <p:nvPr/>
            </p:nvSpPr>
            <p:spPr>
              <a:xfrm>
                <a:off x="75960" y="107532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1"/>
              <p:cNvSpPr/>
              <p:nvPr/>
            </p:nvSpPr>
            <p:spPr>
              <a:xfrm>
                <a:off x="75960" y="1305360"/>
                <a:ext cx="1504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2"/>
              <p:cNvSpPr/>
              <p:nvPr/>
            </p:nvSpPr>
            <p:spPr>
              <a:xfrm>
                <a:off x="75960" y="1535760"/>
                <a:ext cx="1504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26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09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35EEB9-0C35-4E9D-A81D-EE44B0C8684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4400" spc="-1" strike="noStrike">
                <a:solidFill>
                  <a:srgbClr val="fde503"/>
                </a:solidFill>
                <a:latin typeface="Arial"/>
              </a:rPr>
              <a:t>Wyszukiwanie przez słowa</a:t>
            </a:r>
            <a:br>
              <a:rPr sz="4400"/>
            </a:br>
            <a:r>
              <a:rPr b="1" lang="pl-PL" sz="4400" spc="-1" strike="noStrike">
                <a:solidFill>
                  <a:srgbClr val="fde503"/>
                </a:solidFill>
                <a:latin typeface="Arial"/>
              </a:rPr>
              <a:t>z hasła przedmiotowego</a:t>
            </a:r>
            <a:br>
              <a:rPr sz="4000"/>
            </a:br>
            <a:br>
              <a:rPr sz="2000"/>
            </a:br>
            <a:r>
              <a:rPr b="0" lang="pl-PL" sz="3400" spc="-1" strike="noStrike">
                <a:solidFill>
                  <a:srgbClr val="fde503"/>
                </a:solidFill>
                <a:latin typeface="Arial"/>
              </a:rPr>
              <a:t>– przegląd rozwiązań</a:t>
            </a:r>
            <a:br>
              <a:rPr sz="3400"/>
            </a:br>
            <a:r>
              <a:rPr b="0" lang="pl-PL" sz="3400" spc="-1" strike="noStrike">
                <a:solidFill>
                  <a:srgbClr val="fde503"/>
                </a:solidFill>
                <a:latin typeface="Arial"/>
              </a:rPr>
              <a:t>w katalogach OPAC WWW</a:t>
            </a:r>
            <a:br>
              <a:rPr sz="4000"/>
            </a:br>
            <a:br>
              <a:rPr sz="2000"/>
            </a:br>
            <a:r>
              <a:rPr b="0" lang="pl-PL" sz="2800" spc="-1" strike="noStrike" u="sng">
                <a:solidFill>
                  <a:srgbClr val="00ff00"/>
                </a:solidFill>
                <a:uFillTx/>
                <a:latin typeface="Arial"/>
              </a:rPr>
              <a:t>5. LIBR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7640" y="4581360"/>
            <a:ext cx="878508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l-PL" sz="2600" spc="-1" strike="noStrike">
                <a:solidFill>
                  <a:srgbClr val="ffffff"/>
                </a:solidFill>
                <a:latin typeface="Arial"/>
              </a:rPr>
              <a:t>Szymon Kiełpińsk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ojewódzka Biblioteka Publiczna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– Książnica Kopernikańska w Toruni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Times New Roman"/>
              </a:rPr>
              <a:t>Warsztaty Języka Haseł Przedmiotowych Biblioteki Narodowej i Uniwersalnej Klasyfikacji Dziesiętnej 201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Times New Roman"/>
              </a:rPr>
              <a:t>Warszawa, Biblioteka Narodowa, 9 – 11 czerwca 2010 r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wstanie warszawskie, we wszystkich indeksach, bez opcji „dowolny fragment pola”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nik jest, ale brak licznika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92" name="Picture 5" descr="2 fraza - wszystkie indeksy - wyniki 1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echodzę na dół okna – nie więcej niż </a:t>
            </a:r>
            <a:r>
              <a:rPr b="0" lang="pl-PL" sz="1800" spc="-1" strike="noStrike">
                <a:solidFill>
                  <a:srgbClr val="ffcc00"/>
                </a:solidFill>
                <a:latin typeface="Arial"/>
              </a:rPr>
              <a:t>30 pozycji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na liście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94" name="Picture 5" descr="2 fraza - wszystkie indeksy - wyniki 2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ykładowy opis, żeby zobaczyć jak funkcjonują HP? – zgodnie ze zasadami JHP BN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96" name="Picture 5" descr="3 fraza - fragment pola - przykładowy rekord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wstanie warszawskie, we wszystkich indeksach, ale teraz zaznaczam „dowolny fragment pola”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ą wyniki, znowu nie wiem ile…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98" name="Picture 5" descr="3 fraza - fragment pola - wszystkie indeksy - wyniki 1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echodzę na dół okna – nie więcej niż </a:t>
            </a:r>
            <a:r>
              <a:rPr b="0" lang="pl-PL" sz="1800" spc="-1" strike="noStrike">
                <a:solidFill>
                  <a:srgbClr val="ffcc00"/>
                </a:solidFill>
                <a:latin typeface="Arial"/>
              </a:rPr>
              <a:t>40 pozycji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a więc więcej niż poprzednio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00" name="Picture 4" descr="3 fraza - fragment pola - wszystkie indeksy - wyniki 2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szukiwanie złożone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ażde słowo do osobnego wyszukania w indeksie HP, spójnik „oraz”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ą wyniki, oczywiście nie wiem ile pozycji…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02" name="Picture 4" descr="5 złożone - wyniki 1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echodzę na dół okna – co najmniej 100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prawdzam, czy nie więcej – klikam na „10” żeby przejść do 10. ekranu wyników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04" name="Picture 4" descr="5 złożone - wyniki 2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cc00"/>
                </a:solidFill>
                <a:latin typeface="Arial"/>
              </a:rPr>
              <a:t>ok. 140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cc00"/>
                </a:solidFill>
                <a:latin typeface="Arial"/>
              </a:rPr>
              <a:t>pozycji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na liście, a więc zdecydowanie więcej niż poprzednio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(poprzednie wyszukiwania dały odpowiednio: nie więcej niż 30 lub 40)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06" name="Picture 4" descr="5 złożone - wyniki 3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listę wyników mogę w każdej chwili zawęzić, np. typem dokumentu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08" name="Picture 4" descr="5 złożone - wyniki 4 + zawężanie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cc00"/>
                </a:solidFill>
                <a:latin typeface="Arial"/>
              </a:rPr>
              <a:t>2. metoda wyszukiwania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– przeglądanie indeksu nazwanego tu „katalogiem”.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iestety jedyna nawigacja to wybór początkowej litery hasła i przyciski na dole strony, więc poruszamy się prawie po omacku… z przeskokiem o 1, 2 lub 10 ekranów…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10" name="Picture 4" descr="6 Powstanie warszawskie 1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ajpierw wybór sposobu wyszukiwania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76" name="Picture 5" descr="1 start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zostałe HP o powstaniu warszawskim.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Jest też Powstanie 1945 r. praskie i Powstanie 1956 r. węgierskie ale i Powstanie chłopskie (1846).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12" name="Picture 4" descr="6 Powstanie warszawskie 2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alszy ciąg indeksu – nie ma sformułowania: „Powstanie warszawskie”, chociaż jest np. powstanie styczniowe i powstanie praskie, a przecież praski było z rokiem na poprzednim ekranie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14" name="Picture 4" descr="7 Powstanie styczniowe - nie warszawskie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a styczniowe ma cały ciąg w oparciu o formę przyjętą – z rokiem wewnątrz.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idzimy tez Powstanie 1846 r. chłopskie, a niedawno było Powstanie chłopskie (1846).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Odmienne formy tematów nie są jednak odsyłaczami…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16" name="Picture 4" descr="8 Powstanie styczniowe 1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d. powstania styczniowego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18" name="Picture 4" descr="8 Powstanie styczniowe 2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ymbol zastępczy numeru slajdu 4"/>
          <p:cNvSpPr/>
          <p:nvPr/>
        </p:nvSpPr>
        <p:spPr>
          <a:xfrm>
            <a:off x="70102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FDBB28D-188C-4196-AF4F-E45454A6023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Zbrodnia i kar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brodnia i kara” w indeksie HP, bez „Dowolnego fragmentu pola” – wynik 0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22" name="Picture 4" descr="1 proste - wyniki - 0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brodnia i kara”, indeks HP + „dowolny fragment pola” – wynik: jest.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ie wiem ile pozycji, musze przejść na dół ekranu…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24" name="Picture 4" descr="2 proste - fragment pola - wyniki - 1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niej niż 20 pozycji.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echodzę do opisu 2. pozycji na ekranie – Otulakowska: 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Czy człowiekowi wszystko wolno?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26" name="Picture 4" descr="3 proste - fragment pola - wyniki - 2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szukiwałem „Zbrodnia i kara” a w opisie jest „Prestuplenie i nakazanie” – ciekawe…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likam na interesujące nas HP, a więc na: </a:t>
            </a:r>
            <a:br>
              <a:rPr sz="1800"/>
            </a:br>
            <a:r>
              <a:rPr b="0" lang="pl-PL" sz="1700" spc="-1" strike="noStrike">
                <a:solidFill>
                  <a:srgbClr val="ffffff"/>
                </a:solidFill>
                <a:latin typeface="Arial"/>
              </a:rPr>
              <a:t>Dostoevskij, Fëdor Mihajlovič (1821-1881). Prestuplenie i nakazanie – materiały metodyczne</a:t>
            </a:r>
            <a:endParaRPr b="0" lang="en-US" sz="17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28" name="Picture 4" descr="4 przykładowy RB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echodzę do indeksu – wyświetla się wybrane HP, ale nie w całości – nie mieści się…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30" name="Picture 4" descr="5 przykładowy RB przejście do RW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szukiwanie proste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oszę zwrócić uwagę na kryterium „dowolny fragment pola” - możemy więc nie tylko przeglądać indeks HP (wyszukiwać po początku), ale także „po słowach z”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78" name="Picture 4" descr="2 wyszukiwanie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ymbol zastępczy numeru slajdu 4"/>
          <p:cNvSpPr/>
          <p:nvPr/>
        </p:nvSpPr>
        <p:spPr>
          <a:xfrm>
            <a:off x="70102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D1E47BA-EB38-41C7-B076-20C0000D975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Dostojewski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ndeks przedmiotowy dla Dostojewskiego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34" name="Picture 4" descr="6 indeks - Dostoevskij 1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cd. Indeksu - są HP z pisownia oryginalną i polską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(w różnej liczbie: np. „Prestuplenie” – 5 HP, „Zbrodnia” – 3 HP).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Być może zachodzą między nimi jakieś relacje, jednak nie jest to uwidocznione.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36" name="Picture 4" descr="7 indeks - Dostoevskij 2 Dostojewski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 opisie artykułu 5 slajdów wcześniej (Otulakowska: </a:t>
            </a:r>
            <a:r>
              <a:rPr b="0" i="1" lang="pl-PL" sz="1800" spc="-1" strike="noStrike">
                <a:solidFill>
                  <a:srgbClr val="ffffff"/>
                </a:solidFill>
                <a:latin typeface="Arial"/>
              </a:rPr>
              <a:t>Czy człowiekowi wszystko wolno?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) było HP z tytułem w oryginale i %v materiały metodyczne .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prawdzę, co jest pod polskim tytułem z %v materiały metodyczne – wybieram hasło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38" name="Picture 4" descr="8 RB powiązany z polskim RW - wybór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 przechodzę do tego samego opisu, co wcześniej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0" name="Picture 4" descr="9 RB powiązany z polskim RW - wwybrany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azwa osobowa i tytuł w pisowni oryginalnej. Ciekawe rozwiązanie, aczkolwiek trudno mi zrozumieć jego mechanizm (obie wersje HP podpięte pod ten sam RB?, odsyłacze?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Ale przecież w indeksie jest różna ilość HP w wersji polskiej i oryginalnej…)</a:t>
            </a: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2" name="Picture 4" descr="4 przykładowy RB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indeksy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80" name="Picture 4" descr="2 wyszukiwanie - indeksy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typ dokumentu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82" name="Picture 4" descr="3 wyszukiwanie - typy dokumentów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szukiwanie złożone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3 indeksy + typ dokumentu i rok wydania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84" name="Picture 4" descr="4 wyszukiwanie złożone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ymbol zastępczy numeru slajdu 4"/>
          <p:cNvSpPr/>
          <p:nvPr/>
        </p:nvSpPr>
        <p:spPr>
          <a:xfrm>
            <a:off x="7010280" y="6248520"/>
            <a:ext cx="1903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90C352C-C121-4E95-902E-C385FF6B52B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141280"/>
            <a:ext cx="777096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4400" spc="-1" strike="noStrike">
                <a:solidFill>
                  <a:srgbClr val="ffff00"/>
                </a:solidFill>
                <a:latin typeface="Arial"/>
              </a:rPr>
              <a:t>powstanie warszawski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szukam: powstanie warszawskie w indeksie HP, po początku – wynik 0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(wygląd ekranu nie zmienia się po wyszukiwaniu, jeżeli wynik jest zerowy, niestety…)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88" name="Picture 4" descr="1a fraza - wyniki - 0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To samo pytanie, ale zaznaczam dowolny fragment pola – również wynik 0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90" name="Picture 4" descr="1b fraza - fragment pola - wyniki - 0"/>
          <p:cNvPicPr/>
          <p:nvPr/>
        </p:nvPicPr>
        <p:blipFill>
          <a:blip r:embed="rId1"/>
          <a:stretch/>
        </p:blipFill>
        <p:spPr>
          <a:xfrm>
            <a:off x="509760" y="765000"/>
            <a:ext cx="81244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Zosia</dc:creator>
  <dc:description/>
  <dc:language>en-US</dc:language>
  <cp:lastModifiedBy>Włodarczyk</cp:lastModifiedBy>
  <dcterms:modified xsi:type="dcterms:W3CDTF">2010-09-23T13:18:43Z</dcterms:modified>
  <cp:revision>155</cp:revision>
  <dc:subject/>
  <dc:title>Rekordy wzorcowe LKHW</dc:title>
</cp:coreProperties>
</file>